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B43E-CD6D-4650-9EDD-F9744DAC37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P header - END Decimal 1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 - Decimal 2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s data END with ESC-Dec 2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s data ESC with ESC-Dec 3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s IP datagram followed by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C- High Level Data Link Control, ISO - 3309 also used in X.25, Frame Relay, and ISD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- Link Control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S - Frame Check Sequence -16-bit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Quality Monitoring - Definable test of link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P - Network Control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and NCP negotiate Network Layer connection between the two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666-48EE-4C57-B4C2-66E4B365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9AB-6171-4D33-BE58-337C367F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474-0D48-4855-A62F-6324C1D7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469-ED2E-4021-A881-EB08C821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77E9-4E66-442C-803C-C55807DC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7077-8355-416E-8C30-69F01A3F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EEAA-F2D7-4151-91C4-8F7842A4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A710-CCCF-4C32-A587-3EC21DC2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D3B2-7C6B-4187-8F03-63B41A32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E518-1F6B-4CAA-927E-0BDA65BB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F55D-FA58-464F-B12A-79E513E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1AC-B938-43BB-B2DE-C0AD1760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091F-3035-4B03-A216-C21FF675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5E8A-55DC-4830-93A4-28028D01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7BB9-110E-479A-8A5D-F66DCBEA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26B1-F353-46B9-941C-BE587C4B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06AE-DE6A-47A7-90AD-1C65DC0A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BC9-6A5B-4F75-BBD6-FB0908A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40A-248E-48EC-98CA-BDD06BA0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689-7E0C-4121-98F0-FFB47DE0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93D-0AE0-4475-9A63-E346E1A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9C4-5A42-4F04-A07B-F6A059C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B82-E934-4C05-AD76-8177BCCB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FFC-8B89-4250-836B-404F19A1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8904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39536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1034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11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51792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0696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9150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4192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67320" y="5797440"/>
                <a:ext cx="91944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13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408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93200" y="6072120"/>
                <a:ext cx="574560" cy="801720"/>
              </a:xfrm>
              <a:custGeom>
                <a:avLst/>
                <a:gdLst/>
                <a:ahLst/>
                <a:rect l="l" t="t" r="r" b="b"/>
                <a:pathLst>
                  <a:path w="362" h="505">
                    <a:moveTo>
                      <a:pt x="0" y="504"/>
                    </a:moveTo>
                    <a:lnTo>
                      <a:pt x="361" y="0"/>
                    </a:lnTo>
                    <a:lnTo>
                      <a:pt x="361" y="122"/>
                    </a:lnTo>
                    <a:lnTo>
                      <a:pt x="96" y="504"/>
                    </a:lnTo>
                    <a:lnTo>
                      <a:pt x="0" y="50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DC1-B83B-4F5E-A413-8B5F9C9EC1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/>
                  <a:ahLst/>
                  <a:rect l="l" t="t" r="r" b="b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/>
              <a:ahLst/>
              <a:rect l="l" t="t" r="r" b="b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1108-6B35-408E-9027-AA6673382E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Network Server Acces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hael P. Andr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tech Electronic Comme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ior Technology Consul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Services  - National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ike.Andrews@Ameritech.CO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ke@MikeA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1663-A65D-42C0-9E30-19766CEB77B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TCP/IP on LA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twork Lay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(Applic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(Presentation/Sess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 (Transpo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 (Networ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thernet (Data Lin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isted Pair (Physica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8AA-4026-4DBA-AC7A-4CE8D03A42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TCP/IP on Dial-u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twork Lay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(Applic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(Presentation/Sess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 (Transpo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 (Networ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PP (Data Lin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ial Modem (Physica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483-4F6A-4CA8-87A0-C278EF77ED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pplication</a:t>
            </a:r>
            <a:br>
              <a:rPr sz="4200"/>
            </a:b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 “doesn’t see a difference”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ther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wisted Pai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796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al-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Serial Mode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30E-80A8-4D9A-B231-5B03C6F74522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LIP vs. PP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L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ial Link 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P with minimal hea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error check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P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796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int to Protoc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DL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CP - Error check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QM - F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CP - Carrie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ultiple Protoco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CP  (I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XCP (IP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CP (Appletal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CP (NetBI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191-3A2C-426B-ABF4-0EDED482B0AD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PPP Node Authentic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ain text password sent across line during PPP negot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sword is MD5 digest key to random challenge, password never crosses the li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llenge periodically re-occurs during PPP conn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752480" y="5018040"/>
          <a:ext cx="609624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018040"/>
                    <a:ext cx="60962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FD4-9043-4BF3-815A-B2358118FB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Out of Band Node Authentic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rname/Passwor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script to answer prom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ssword may be expo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ler I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ject call if not from home numb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n’t support “Road Warrior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lbac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176-79F7-41FE-9CC1-A7F4C2FBC9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More Secure Node Authentic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e time Passwor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Ke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ftware freely avail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ke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ur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351-9198-48B7-8FEE-DBD44DC84A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Dial-up Link choice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alog Mod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llular Mod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ISDN “Modem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ISDN Rou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Packet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ADS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9BD-C7D2-420D-9C63-6605C2168C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nalog Mode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vailable in Internal/External/PC c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s existing POTS phone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*67, to disable Call Wai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fting phone extension causes err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st with separate phone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ers available for use with Digital PBX lines (connects to hands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587-8628-45CC-A261-1E393EDE6B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V.34bis Mode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 to 33.6Kb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rror  correc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ive link spe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wnshifts” for poor-quality 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4X better throughp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4F8-D075-40F5-A764-1C1C45435E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1951920" y="276120"/>
            <a:ext cx="12698640" cy="7071840"/>
            <a:chOff x="-1951920" y="276120"/>
            <a:chExt cx="12698640" cy="7071840"/>
          </a:xfrm>
        </p:grpSpPr>
        <p:graphicFrame>
          <p:nvGraphicFramePr>
            <p:cNvPr id="126" name=""/>
            <p:cNvGraphicFramePr/>
            <p:nvPr/>
          </p:nvGraphicFramePr>
          <p:xfrm>
            <a:off x="2209680" y="2362320"/>
            <a:ext cx="4800600" cy="261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2362320"/>
                      <a:ext cx="4800600" cy="26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-1951920" y="2567160"/>
              <a:ext cx="5799600" cy="467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2735280"/>
              <a:ext cx="5488920" cy="461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8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8011"/>
                </a:path>
              </a:pathLst>
            </a:custGeom>
            <a:noFill/>
            <a:ln cap="rnd" w="25560">
              <a:solidFill>
                <a:srgbClr val="ff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2068560"/>
              <a:ext cx="0" cy="2252520"/>
            </a:xfrm>
            <a:prstGeom prst="line">
              <a:avLst/>
            </a:prstGeom>
            <a:ln w="25560">
              <a:solidFill>
                <a:srgbClr val="ff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255600" y="414360"/>
            <a:ext cx="2182680" cy="100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600" y="414360"/>
                      <a:ext cx="2182680" cy="100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133200" y="1722600"/>
              <a:ext cx="187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4ffb"/>
                  </a:solidFill>
                  <a:latin typeface="Times New Roman"/>
                </a:rPr>
                <a:t>Work At Ho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47000" y="1722600"/>
              <a:ext cx="187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4ffb"/>
                  </a:solidFill>
                  <a:latin typeface="Times New Roman"/>
                </a:rPr>
                <a:t>Intranet Acc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397640" y="276120"/>
              <a:ext cx="1282680" cy="1271520"/>
              <a:chOff x="7397640" y="276120"/>
              <a:chExt cx="1282680" cy="1271520"/>
            </a:xfrm>
          </p:grpSpPr>
          <p:sp>
            <p:nvSpPr>
              <p:cNvPr id="136" name=""/>
              <p:cNvSpPr/>
              <p:nvPr/>
            </p:nvSpPr>
            <p:spPr>
              <a:xfrm>
                <a:off x="7397640" y="281160"/>
                <a:ext cx="1282680" cy="126648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7626240" y="385920"/>
                <a:ext cx="498600" cy="1145880"/>
                <a:chOff x="7626240" y="385920"/>
                <a:chExt cx="498600" cy="11458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7769160" y="1035000"/>
                  <a:ext cx="354240" cy="496800"/>
                  <a:chOff x="7769160" y="1035000"/>
                  <a:chExt cx="354240" cy="4968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7769160" y="1035000"/>
                    <a:ext cx="354240" cy="4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95">
                        <a:moveTo>
                          <a:pt x="26" y="9"/>
                        </a:moveTo>
                        <a:lnTo>
                          <a:pt x="39" y="0"/>
                        </a:lnTo>
                        <a:lnTo>
                          <a:pt x="50" y="0"/>
                        </a:lnTo>
                        <a:lnTo>
                          <a:pt x="53" y="1"/>
                        </a:lnTo>
                        <a:lnTo>
                          <a:pt x="53" y="3"/>
                        </a:lnTo>
                        <a:lnTo>
                          <a:pt x="53" y="7"/>
                        </a:lnTo>
                        <a:lnTo>
                          <a:pt x="56" y="9"/>
                        </a:lnTo>
                        <a:lnTo>
                          <a:pt x="58" y="5"/>
                        </a:lnTo>
                        <a:lnTo>
                          <a:pt x="59" y="1"/>
                        </a:lnTo>
                        <a:lnTo>
                          <a:pt x="62" y="1"/>
                        </a:lnTo>
                        <a:lnTo>
                          <a:pt x="63" y="3"/>
                        </a:lnTo>
                        <a:lnTo>
                          <a:pt x="67" y="6"/>
                        </a:lnTo>
                        <a:lnTo>
                          <a:pt x="71" y="9"/>
                        </a:lnTo>
                        <a:lnTo>
                          <a:pt x="81" y="9"/>
                        </a:lnTo>
                        <a:lnTo>
                          <a:pt x="86" y="10"/>
                        </a:lnTo>
                        <a:lnTo>
                          <a:pt x="89" y="10"/>
                        </a:lnTo>
                        <a:lnTo>
                          <a:pt x="91" y="10"/>
                        </a:lnTo>
                        <a:lnTo>
                          <a:pt x="96" y="12"/>
                        </a:lnTo>
                        <a:lnTo>
                          <a:pt x="97" y="15"/>
                        </a:lnTo>
                        <a:lnTo>
                          <a:pt x="97" y="18"/>
                        </a:lnTo>
                        <a:lnTo>
                          <a:pt x="104" y="20"/>
                        </a:lnTo>
                        <a:lnTo>
                          <a:pt x="109" y="25"/>
                        </a:lnTo>
                        <a:lnTo>
                          <a:pt x="115" y="30"/>
                        </a:lnTo>
                        <a:lnTo>
                          <a:pt x="119" y="33"/>
                        </a:lnTo>
                        <a:lnTo>
                          <a:pt x="121" y="33"/>
                        </a:lnTo>
                        <a:lnTo>
                          <a:pt x="128" y="33"/>
                        </a:lnTo>
                        <a:lnTo>
                          <a:pt x="132" y="35"/>
                        </a:lnTo>
                        <a:lnTo>
                          <a:pt x="137" y="40"/>
                        </a:lnTo>
                        <a:lnTo>
                          <a:pt x="144" y="44"/>
                        </a:lnTo>
                        <a:lnTo>
                          <a:pt x="148" y="48"/>
                        </a:lnTo>
                        <a:lnTo>
                          <a:pt x="149" y="54"/>
                        </a:lnTo>
                        <a:lnTo>
                          <a:pt x="147" y="57"/>
                        </a:lnTo>
                        <a:lnTo>
                          <a:pt x="144" y="63"/>
                        </a:lnTo>
                        <a:lnTo>
                          <a:pt x="148" y="67"/>
                        </a:lnTo>
                        <a:lnTo>
                          <a:pt x="150" y="68"/>
                        </a:lnTo>
                        <a:lnTo>
                          <a:pt x="154" y="65"/>
                        </a:lnTo>
                        <a:lnTo>
                          <a:pt x="161" y="63"/>
                        </a:lnTo>
                        <a:lnTo>
                          <a:pt x="166" y="65"/>
                        </a:lnTo>
                        <a:lnTo>
                          <a:pt x="171" y="65"/>
                        </a:lnTo>
                        <a:lnTo>
                          <a:pt x="177" y="67"/>
                        </a:lnTo>
                        <a:lnTo>
                          <a:pt x="183" y="71"/>
                        </a:lnTo>
                        <a:lnTo>
                          <a:pt x="190" y="71"/>
                        </a:lnTo>
                        <a:lnTo>
                          <a:pt x="197" y="71"/>
                        </a:lnTo>
                        <a:lnTo>
                          <a:pt x="205" y="77"/>
                        </a:lnTo>
                        <a:lnTo>
                          <a:pt x="213" y="79"/>
                        </a:lnTo>
                        <a:lnTo>
                          <a:pt x="219" y="81"/>
                        </a:lnTo>
                        <a:lnTo>
                          <a:pt x="222" y="86"/>
                        </a:lnTo>
                        <a:lnTo>
                          <a:pt x="221" y="93"/>
                        </a:lnTo>
                        <a:lnTo>
                          <a:pt x="217" y="98"/>
                        </a:lnTo>
                        <a:lnTo>
                          <a:pt x="213" y="103"/>
                        </a:lnTo>
                        <a:lnTo>
                          <a:pt x="208" y="109"/>
                        </a:lnTo>
                        <a:lnTo>
                          <a:pt x="206" y="116"/>
                        </a:lnTo>
                        <a:lnTo>
                          <a:pt x="200" y="120"/>
                        </a:lnTo>
                        <a:lnTo>
                          <a:pt x="204" y="127"/>
                        </a:lnTo>
                        <a:lnTo>
                          <a:pt x="204" y="136"/>
                        </a:lnTo>
                        <a:lnTo>
                          <a:pt x="200" y="142"/>
                        </a:lnTo>
                        <a:lnTo>
                          <a:pt x="200" y="149"/>
                        </a:lnTo>
                        <a:lnTo>
                          <a:pt x="196" y="155"/>
                        </a:lnTo>
                        <a:lnTo>
                          <a:pt x="192" y="158"/>
                        </a:lnTo>
                        <a:lnTo>
                          <a:pt x="187" y="160"/>
                        </a:lnTo>
                        <a:lnTo>
                          <a:pt x="180" y="160"/>
                        </a:lnTo>
                        <a:lnTo>
                          <a:pt x="171" y="162"/>
                        </a:lnTo>
                        <a:lnTo>
                          <a:pt x="163" y="167"/>
                        </a:lnTo>
                        <a:lnTo>
                          <a:pt x="159" y="173"/>
                        </a:lnTo>
                        <a:lnTo>
                          <a:pt x="157" y="176"/>
                        </a:lnTo>
                        <a:lnTo>
                          <a:pt x="161" y="179"/>
                        </a:lnTo>
                        <a:lnTo>
                          <a:pt x="161" y="184"/>
                        </a:lnTo>
                        <a:lnTo>
                          <a:pt x="150" y="192"/>
                        </a:lnTo>
                        <a:lnTo>
                          <a:pt x="144" y="204"/>
                        </a:lnTo>
                        <a:lnTo>
                          <a:pt x="135" y="211"/>
                        </a:lnTo>
                        <a:lnTo>
                          <a:pt x="128" y="211"/>
                        </a:lnTo>
                        <a:lnTo>
                          <a:pt x="119" y="205"/>
                        </a:lnTo>
                        <a:lnTo>
                          <a:pt x="119" y="214"/>
                        </a:lnTo>
                        <a:lnTo>
                          <a:pt x="123" y="218"/>
                        </a:lnTo>
                        <a:lnTo>
                          <a:pt x="122" y="226"/>
                        </a:lnTo>
                        <a:lnTo>
                          <a:pt x="109" y="233"/>
                        </a:lnTo>
                        <a:lnTo>
                          <a:pt x="104" y="232"/>
                        </a:lnTo>
                        <a:lnTo>
                          <a:pt x="98" y="242"/>
                        </a:lnTo>
                        <a:lnTo>
                          <a:pt x="93" y="243"/>
                        </a:lnTo>
                        <a:lnTo>
                          <a:pt x="90" y="248"/>
                        </a:lnTo>
                        <a:lnTo>
                          <a:pt x="93" y="252"/>
                        </a:lnTo>
                        <a:lnTo>
                          <a:pt x="87" y="259"/>
                        </a:lnTo>
                        <a:lnTo>
                          <a:pt x="92" y="270"/>
                        </a:lnTo>
                        <a:lnTo>
                          <a:pt x="87" y="278"/>
                        </a:lnTo>
                        <a:lnTo>
                          <a:pt x="83" y="285"/>
                        </a:lnTo>
                        <a:lnTo>
                          <a:pt x="87" y="291"/>
                        </a:lnTo>
                        <a:lnTo>
                          <a:pt x="78" y="291"/>
                        </a:lnTo>
                        <a:lnTo>
                          <a:pt x="70" y="294"/>
                        </a:lnTo>
                        <a:lnTo>
                          <a:pt x="61" y="280"/>
                        </a:lnTo>
                        <a:lnTo>
                          <a:pt x="59" y="269"/>
                        </a:lnTo>
                        <a:lnTo>
                          <a:pt x="59" y="245"/>
                        </a:lnTo>
                        <a:lnTo>
                          <a:pt x="50" y="235"/>
                        </a:lnTo>
                        <a:lnTo>
                          <a:pt x="51" y="219"/>
                        </a:lnTo>
                        <a:lnTo>
                          <a:pt x="55" y="209"/>
                        </a:lnTo>
                        <a:lnTo>
                          <a:pt x="53" y="199"/>
                        </a:lnTo>
                        <a:lnTo>
                          <a:pt x="53" y="187"/>
                        </a:lnTo>
                        <a:lnTo>
                          <a:pt x="53" y="158"/>
                        </a:lnTo>
                        <a:lnTo>
                          <a:pt x="56" y="144"/>
                        </a:lnTo>
                        <a:lnTo>
                          <a:pt x="51" y="136"/>
                        </a:lnTo>
                        <a:lnTo>
                          <a:pt x="45" y="131"/>
                        </a:lnTo>
                        <a:lnTo>
                          <a:pt x="40" y="128"/>
                        </a:lnTo>
                        <a:lnTo>
                          <a:pt x="39" y="123"/>
                        </a:lnTo>
                        <a:lnTo>
                          <a:pt x="36" y="124"/>
                        </a:lnTo>
                        <a:lnTo>
                          <a:pt x="30" y="125"/>
                        </a:lnTo>
                        <a:lnTo>
                          <a:pt x="29" y="123"/>
                        </a:lnTo>
                        <a:lnTo>
                          <a:pt x="25" y="119"/>
                        </a:lnTo>
                        <a:lnTo>
                          <a:pt x="22" y="114"/>
                        </a:lnTo>
                        <a:lnTo>
                          <a:pt x="23" y="111"/>
                        </a:lnTo>
                        <a:lnTo>
                          <a:pt x="21" y="105"/>
                        </a:lnTo>
                        <a:lnTo>
                          <a:pt x="18" y="99"/>
                        </a:lnTo>
                        <a:lnTo>
                          <a:pt x="17" y="98"/>
                        </a:lnTo>
                        <a:lnTo>
                          <a:pt x="17" y="96"/>
                        </a:lnTo>
                        <a:lnTo>
                          <a:pt x="15" y="94"/>
                        </a:lnTo>
                        <a:lnTo>
                          <a:pt x="11" y="87"/>
                        </a:lnTo>
                        <a:lnTo>
                          <a:pt x="11" y="85"/>
                        </a:lnTo>
                        <a:lnTo>
                          <a:pt x="6" y="82"/>
                        </a:lnTo>
                        <a:lnTo>
                          <a:pt x="6" y="76"/>
                        </a:lnTo>
                        <a:lnTo>
                          <a:pt x="3" y="72"/>
                        </a:lnTo>
                        <a:lnTo>
                          <a:pt x="0" y="67"/>
                        </a:lnTo>
                        <a:lnTo>
                          <a:pt x="6" y="63"/>
                        </a:lnTo>
                        <a:lnTo>
                          <a:pt x="10" y="60"/>
                        </a:lnTo>
                        <a:lnTo>
                          <a:pt x="6" y="58"/>
                        </a:lnTo>
                        <a:lnTo>
                          <a:pt x="4" y="52"/>
                        </a:lnTo>
                        <a:lnTo>
                          <a:pt x="5" y="47"/>
                        </a:lnTo>
                        <a:lnTo>
                          <a:pt x="10" y="43"/>
                        </a:lnTo>
                        <a:lnTo>
                          <a:pt x="16" y="41"/>
                        </a:lnTo>
                        <a:lnTo>
                          <a:pt x="21" y="34"/>
                        </a:lnTo>
                        <a:lnTo>
                          <a:pt x="23" y="30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6" y="9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893000" y="1504800"/>
                    <a:ext cx="41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8" y="0"/>
                        </a:moveTo>
                        <a:lnTo>
                          <a:pt x="0" y="8"/>
                        </a:lnTo>
                        <a:lnTo>
                          <a:pt x="5" y="16"/>
                        </a:lnTo>
                        <a:lnTo>
                          <a:pt x="16" y="16"/>
                        </a:lnTo>
                        <a:lnTo>
                          <a:pt x="25" y="16"/>
                        </a:lnTo>
                        <a:lnTo>
                          <a:pt x="16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7626240" y="431640"/>
                  <a:ext cx="498600" cy="635040"/>
                  <a:chOff x="7626240" y="431640"/>
                  <a:chExt cx="498600" cy="6350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7897680" y="6462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1"/>
                        </a:moveTo>
                        <a:lnTo>
                          <a:pt x="16" y="16"/>
                        </a:lnTo>
                        <a:lnTo>
                          <a:pt x="16" y="10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5" y="5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7626240" y="431640"/>
                    <a:ext cx="498600" cy="635040"/>
                    <a:chOff x="7626240" y="431640"/>
                    <a:chExt cx="498600" cy="63504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626240" y="431640"/>
                      <a:ext cx="357120" cy="63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400">
                          <a:moveTo>
                            <a:pt x="116" y="390"/>
                          </a:moveTo>
                          <a:lnTo>
                            <a:pt x="106" y="382"/>
                          </a:lnTo>
                          <a:lnTo>
                            <a:pt x="98" y="383"/>
                          </a:lnTo>
                          <a:lnTo>
                            <a:pt x="90" y="375"/>
                          </a:lnTo>
                          <a:lnTo>
                            <a:pt x="89" y="367"/>
                          </a:lnTo>
                          <a:lnTo>
                            <a:pt x="93" y="363"/>
                          </a:lnTo>
                          <a:lnTo>
                            <a:pt x="93" y="361"/>
                          </a:lnTo>
                          <a:lnTo>
                            <a:pt x="96" y="356"/>
                          </a:lnTo>
                          <a:lnTo>
                            <a:pt x="92" y="346"/>
                          </a:lnTo>
                          <a:lnTo>
                            <a:pt x="85" y="346"/>
                          </a:lnTo>
                          <a:lnTo>
                            <a:pt x="77" y="339"/>
                          </a:lnTo>
                          <a:lnTo>
                            <a:pt x="78" y="335"/>
                          </a:lnTo>
                          <a:lnTo>
                            <a:pt x="85" y="323"/>
                          </a:lnTo>
                          <a:lnTo>
                            <a:pt x="83" y="320"/>
                          </a:lnTo>
                          <a:lnTo>
                            <a:pt x="73" y="316"/>
                          </a:lnTo>
                          <a:lnTo>
                            <a:pt x="69" y="320"/>
                          </a:lnTo>
                          <a:lnTo>
                            <a:pt x="66" y="324"/>
                          </a:lnTo>
                          <a:lnTo>
                            <a:pt x="58" y="323"/>
                          </a:lnTo>
                          <a:lnTo>
                            <a:pt x="51" y="320"/>
                          </a:lnTo>
                          <a:lnTo>
                            <a:pt x="45" y="308"/>
                          </a:lnTo>
                          <a:lnTo>
                            <a:pt x="48" y="299"/>
                          </a:lnTo>
                          <a:lnTo>
                            <a:pt x="50" y="292"/>
                          </a:lnTo>
                          <a:lnTo>
                            <a:pt x="52" y="287"/>
                          </a:lnTo>
                          <a:lnTo>
                            <a:pt x="57" y="283"/>
                          </a:lnTo>
                          <a:lnTo>
                            <a:pt x="60" y="279"/>
                          </a:lnTo>
                          <a:lnTo>
                            <a:pt x="66" y="275"/>
                          </a:lnTo>
                          <a:lnTo>
                            <a:pt x="72" y="272"/>
                          </a:lnTo>
                          <a:lnTo>
                            <a:pt x="78" y="276"/>
                          </a:lnTo>
                          <a:lnTo>
                            <a:pt x="83" y="277"/>
                          </a:lnTo>
                          <a:lnTo>
                            <a:pt x="86" y="282"/>
                          </a:lnTo>
                          <a:lnTo>
                            <a:pt x="91" y="281"/>
                          </a:lnTo>
                          <a:lnTo>
                            <a:pt x="97" y="279"/>
                          </a:lnTo>
                          <a:lnTo>
                            <a:pt x="102" y="282"/>
                          </a:lnTo>
                          <a:lnTo>
                            <a:pt x="111" y="292"/>
                          </a:lnTo>
                          <a:lnTo>
                            <a:pt x="108" y="299"/>
                          </a:lnTo>
                          <a:lnTo>
                            <a:pt x="111" y="302"/>
                          </a:lnTo>
                          <a:lnTo>
                            <a:pt x="111" y="305"/>
                          </a:lnTo>
                          <a:lnTo>
                            <a:pt x="115" y="309"/>
                          </a:lnTo>
                          <a:lnTo>
                            <a:pt x="119" y="312"/>
                          </a:lnTo>
                          <a:lnTo>
                            <a:pt x="121" y="310"/>
                          </a:lnTo>
                          <a:lnTo>
                            <a:pt x="121" y="304"/>
                          </a:lnTo>
                          <a:lnTo>
                            <a:pt x="120" y="295"/>
                          </a:lnTo>
                          <a:lnTo>
                            <a:pt x="120" y="286"/>
                          </a:lnTo>
                          <a:lnTo>
                            <a:pt x="119" y="283"/>
                          </a:lnTo>
                          <a:lnTo>
                            <a:pt x="123" y="279"/>
                          </a:lnTo>
                          <a:lnTo>
                            <a:pt x="130" y="277"/>
                          </a:lnTo>
                          <a:lnTo>
                            <a:pt x="132" y="274"/>
                          </a:lnTo>
                          <a:lnTo>
                            <a:pt x="137" y="276"/>
                          </a:lnTo>
                          <a:lnTo>
                            <a:pt x="141" y="272"/>
                          </a:lnTo>
                          <a:lnTo>
                            <a:pt x="147" y="267"/>
                          </a:lnTo>
                          <a:lnTo>
                            <a:pt x="152" y="265"/>
                          </a:lnTo>
                          <a:lnTo>
                            <a:pt x="150" y="260"/>
                          </a:lnTo>
                          <a:lnTo>
                            <a:pt x="155" y="254"/>
                          </a:lnTo>
                          <a:lnTo>
                            <a:pt x="160" y="249"/>
                          </a:lnTo>
                          <a:lnTo>
                            <a:pt x="163" y="247"/>
                          </a:lnTo>
                          <a:lnTo>
                            <a:pt x="173" y="248"/>
                          </a:lnTo>
                          <a:lnTo>
                            <a:pt x="171" y="241"/>
                          </a:lnTo>
                          <a:lnTo>
                            <a:pt x="180" y="236"/>
                          </a:lnTo>
                          <a:lnTo>
                            <a:pt x="188" y="234"/>
                          </a:lnTo>
                          <a:lnTo>
                            <a:pt x="195" y="233"/>
                          </a:lnTo>
                          <a:lnTo>
                            <a:pt x="192" y="239"/>
                          </a:lnTo>
                          <a:lnTo>
                            <a:pt x="199" y="232"/>
                          </a:lnTo>
                          <a:lnTo>
                            <a:pt x="196" y="227"/>
                          </a:lnTo>
                          <a:lnTo>
                            <a:pt x="195" y="218"/>
                          </a:lnTo>
                          <a:lnTo>
                            <a:pt x="188" y="218"/>
                          </a:lnTo>
                          <a:lnTo>
                            <a:pt x="189" y="213"/>
                          </a:lnTo>
                          <a:lnTo>
                            <a:pt x="212" y="213"/>
                          </a:lnTo>
                          <a:lnTo>
                            <a:pt x="224" y="206"/>
                          </a:lnTo>
                          <a:lnTo>
                            <a:pt x="223" y="201"/>
                          </a:lnTo>
                          <a:lnTo>
                            <a:pt x="217" y="195"/>
                          </a:lnTo>
                          <a:lnTo>
                            <a:pt x="217" y="186"/>
                          </a:lnTo>
                          <a:lnTo>
                            <a:pt x="213" y="185"/>
                          </a:lnTo>
                          <a:lnTo>
                            <a:pt x="211" y="178"/>
                          </a:lnTo>
                          <a:lnTo>
                            <a:pt x="209" y="175"/>
                          </a:lnTo>
                          <a:lnTo>
                            <a:pt x="204" y="176"/>
                          </a:lnTo>
                          <a:lnTo>
                            <a:pt x="196" y="170"/>
                          </a:lnTo>
                          <a:lnTo>
                            <a:pt x="193" y="162"/>
                          </a:lnTo>
                          <a:lnTo>
                            <a:pt x="185" y="153"/>
                          </a:lnTo>
                          <a:lnTo>
                            <a:pt x="174" y="164"/>
                          </a:lnTo>
                          <a:lnTo>
                            <a:pt x="174" y="178"/>
                          </a:lnTo>
                          <a:lnTo>
                            <a:pt x="171" y="182"/>
                          </a:lnTo>
                          <a:lnTo>
                            <a:pt x="166" y="182"/>
                          </a:lnTo>
                          <a:lnTo>
                            <a:pt x="163" y="185"/>
                          </a:lnTo>
                          <a:lnTo>
                            <a:pt x="162" y="192"/>
                          </a:lnTo>
                          <a:lnTo>
                            <a:pt x="158" y="199"/>
                          </a:lnTo>
                          <a:lnTo>
                            <a:pt x="153" y="192"/>
                          </a:lnTo>
                          <a:lnTo>
                            <a:pt x="157" y="182"/>
                          </a:lnTo>
                          <a:lnTo>
                            <a:pt x="155" y="175"/>
                          </a:lnTo>
                          <a:lnTo>
                            <a:pt x="151" y="172"/>
                          </a:lnTo>
                          <a:lnTo>
                            <a:pt x="141" y="158"/>
                          </a:lnTo>
                          <a:lnTo>
                            <a:pt x="142" y="152"/>
                          </a:lnTo>
                          <a:lnTo>
                            <a:pt x="153" y="138"/>
                          </a:lnTo>
                          <a:lnTo>
                            <a:pt x="162" y="138"/>
                          </a:lnTo>
                          <a:lnTo>
                            <a:pt x="168" y="137"/>
                          </a:lnTo>
                          <a:lnTo>
                            <a:pt x="172" y="131"/>
                          </a:lnTo>
                          <a:lnTo>
                            <a:pt x="181" y="132"/>
                          </a:lnTo>
                          <a:lnTo>
                            <a:pt x="184" y="128"/>
                          </a:lnTo>
                          <a:lnTo>
                            <a:pt x="192" y="129"/>
                          </a:lnTo>
                          <a:lnTo>
                            <a:pt x="188" y="123"/>
                          </a:lnTo>
                          <a:lnTo>
                            <a:pt x="187" y="115"/>
                          </a:lnTo>
                          <a:lnTo>
                            <a:pt x="180" y="124"/>
                          </a:lnTo>
                          <a:lnTo>
                            <a:pt x="175" y="121"/>
                          </a:lnTo>
                          <a:lnTo>
                            <a:pt x="181" y="111"/>
                          </a:lnTo>
                          <a:lnTo>
                            <a:pt x="181" y="102"/>
                          </a:lnTo>
                          <a:lnTo>
                            <a:pt x="174" y="109"/>
                          </a:lnTo>
                          <a:lnTo>
                            <a:pt x="168" y="115"/>
                          </a:lnTo>
                          <a:lnTo>
                            <a:pt x="147" y="99"/>
                          </a:lnTo>
                          <a:lnTo>
                            <a:pt x="149" y="69"/>
                          </a:lnTo>
                          <a:lnTo>
                            <a:pt x="139" y="60"/>
                          </a:lnTo>
                          <a:lnTo>
                            <a:pt x="138" y="49"/>
                          </a:lnTo>
                          <a:lnTo>
                            <a:pt x="144" y="35"/>
                          </a:lnTo>
                          <a:lnTo>
                            <a:pt x="146" y="19"/>
                          </a:lnTo>
                          <a:lnTo>
                            <a:pt x="139" y="11"/>
                          </a:lnTo>
                          <a:lnTo>
                            <a:pt x="130" y="10"/>
                          </a:lnTo>
                          <a:lnTo>
                            <a:pt x="125" y="7"/>
                          </a:lnTo>
                          <a:lnTo>
                            <a:pt x="124" y="0"/>
                          </a:lnTo>
                          <a:lnTo>
                            <a:pt x="116" y="11"/>
                          </a:lnTo>
                          <a:lnTo>
                            <a:pt x="109" y="12"/>
                          </a:lnTo>
                          <a:lnTo>
                            <a:pt x="106" y="3"/>
                          </a:lnTo>
                          <a:lnTo>
                            <a:pt x="101" y="5"/>
                          </a:lnTo>
                          <a:lnTo>
                            <a:pt x="94" y="6"/>
                          </a:lnTo>
                          <a:lnTo>
                            <a:pt x="78" y="23"/>
                          </a:lnTo>
                          <a:lnTo>
                            <a:pt x="72" y="21"/>
                          </a:lnTo>
                          <a:lnTo>
                            <a:pt x="65" y="9"/>
                          </a:lnTo>
                          <a:lnTo>
                            <a:pt x="66" y="19"/>
                          </a:lnTo>
                          <a:lnTo>
                            <a:pt x="71" y="28"/>
                          </a:lnTo>
                          <a:lnTo>
                            <a:pt x="80" y="34"/>
                          </a:lnTo>
                          <a:lnTo>
                            <a:pt x="85" y="35"/>
                          </a:lnTo>
                          <a:lnTo>
                            <a:pt x="86" y="42"/>
                          </a:lnTo>
                          <a:lnTo>
                            <a:pt x="90" y="48"/>
                          </a:lnTo>
                          <a:lnTo>
                            <a:pt x="87" y="53"/>
                          </a:lnTo>
                          <a:lnTo>
                            <a:pt x="88" y="63"/>
                          </a:lnTo>
                          <a:lnTo>
                            <a:pt x="83" y="79"/>
                          </a:lnTo>
                          <a:lnTo>
                            <a:pt x="70" y="100"/>
                          </a:lnTo>
                          <a:lnTo>
                            <a:pt x="65" y="101"/>
                          </a:lnTo>
                          <a:lnTo>
                            <a:pt x="56" y="121"/>
                          </a:lnTo>
                          <a:lnTo>
                            <a:pt x="52" y="133"/>
                          </a:lnTo>
                          <a:lnTo>
                            <a:pt x="47" y="132"/>
                          </a:lnTo>
                          <a:lnTo>
                            <a:pt x="46" y="136"/>
                          </a:lnTo>
                          <a:lnTo>
                            <a:pt x="39" y="143"/>
                          </a:lnTo>
                          <a:lnTo>
                            <a:pt x="31" y="148"/>
                          </a:lnTo>
                          <a:lnTo>
                            <a:pt x="20" y="158"/>
                          </a:lnTo>
                          <a:lnTo>
                            <a:pt x="12" y="168"/>
                          </a:lnTo>
                          <a:lnTo>
                            <a:pt x="12" y="175"/>
                          </a:lnTo>
                          <a:lnTo>
                            <a:pt x="9" y="179"/>
                          </a:lnTo>
                          <a:lnTo>
                            <a:pt x="6" y="184"/>
                          </a:lnTo>
                          <a:lnTo>
                            <a:pt x="4" y="191"/>
                          </a:lnTo>
                          <a:lnTo>
                            <a:pt x="6" y="198"/>
                          </a:lnTo>
                          <a:lnTo>
                            <a:pt x="8" y="209"/>
                          </a:lnTo>
                          <a:lnTo>
                            <a:pt x="5" y="215"/>
                          </a:lnTo>
                          <a:lnTo>
                            <a:pt x="1" y="227"/>
                          </a:lnTo>
                          <a:lnTo>
                            <a:pt x="0" y="242"/>
                          </a:lnTo>
                          <a:lnTo>
                            <a:pt x="2" y="249"/>
                          </a:lnTo>
                          <a:lnTo>
                            <a:pt x="0" y="263"/>
                          </a:lnTo>
                          <a:lnTo>
                            <a:pt x="5" y="268"/>
                          </a:lnTo>
                          <a:lnTo>
                            <a:pt x="7" y="245"/>
                          </a:lnTo>
                          <a:lnTo>
                            <a:pt x="7" y="228"/>
                          </a:lnTo>
                          <a:lnTo>
                            <a:pt x="11" y="223"/>
                          </a:lnTo>
                          <a:lnTo>
                            <a:pt x="12" y="231"/>
                          </a:lnTo>
                          <a:lnTo>
                            <a:pt x="11" y="236"/>
                          </a:lnTo>
                          <a:lnTo>
                            <a:pt x="11" y="242"/>
                          </a:lnTo>
                          <a:lnTo>
                            <a:pt x="10" y="253"/>
                          </a:lnTo>
                          <a:lnTo>
                            <a:pt x="14" y="263"/>
                          </a:lnTo>
                          <a:lnTo>
                            <a:pt x="14" y="274"/>
                          </a:lnTo>
                          <a:lnTo>
                            <a:pt x="16" y="279"/>
                          </a:lnTo>
                          <a:lnTo>
                            <a:pt x="18" y="285"/>
                          </a:lnTo>
                          <a:lnTo>
                            <a:pt x="14" y="292"/>
                          </a:lnTo>
                          <a:lnTo>
                            <a:pt x="16" y="300"/>
                          </a:lnTo>
                          <a:lnTo>
                            <a:pt x="19" y="312"/>
                          </a:lnTo>
                          <a:lnTo>
                            <a:pt x="27" y="317"/>
                          </a:lnTo>
                          <a:lnTo>
                            <a:pt x="35" y="327"/>
                          </a:lnTo>
                          <a:lnTo>
                            <a:pt x="40" y="333"/>
                          </a:lnTo>
                          <a:lnTo>
                            <a:pt x="45" y="332"/>
                          </a:lnTo>
                          <a:lnTo>
                            <a:pt x="50" y="336"/>
                          </a:lnTo>
                          <a:lnTo>
                            <a:pt x="54" y="339"/>
                          </a:lnTo>
                          <a:lnTo>
                            <a:pt x="57" y="344"/>
                          </a:lnTo>
                          <a:lnTo>
                            <a:pt x="69" y="355"/>
                          </a:lnTo>
                          <a:lnTo>
                            <a:pt x="72" y="356"/>
                          </a:lnTo>
                          <a:lnTo>
                            <a:pt x="80" y="362"/>
                          </a:lnTo>
                          <a:lnTo>
                            <a:pt x="80" y="373"/>
                          </a:lnTo>
                          <a:lnTo>
                            <a:pt x="89" y="383"/>
                          </a:lnTo>
                          <a:lnTo>
                            <a:pt x="97" y="392"/>
                          </a:lnTo>
                          <a:lnTo>
                            <a:pt x="101" y="393"/>
                          </a:lnTo>
                          <a:lnTo>
                            <a:pt x="105" y="390"/>
                          </a:lnTo>
                          <a:lnTo>
                            <a:pt x="107" y="389"/>
                          </a:lnTo>
                          <a:lnTo>
                            <a:pt x="113" y="399"/>
                          </a:lnTo>
                          <a:lnTo>
                            <a:pt x="116" y="39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781760" y="933480"/>
                      <a:ext cx="651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6">
                          <a:moveTo>
                            <a:pt x="1" y="0"/>
                          </a:moveTo>
                          <a:lnTo>
                            <a:pt x="12" y="2"/>
                          </a:lnTo>
                          <a:lnTo>
                            <a:pt x="18" y="7"/>
                          </a:lnTo>
                          <a:lnTo>
                            <a:pt x="23" y="11"/>
                          </a:lnTo>
                          <a:lnTo>
                            <a:pt x="26" y="12"/>
                          </a:lnTo>
                          <a:lnTo>
                            <a:pt x="32" y="16"/>
                          </a:lnTo>
                          <a:lnTo>
                            <a:pt x="36" y="22"/>
                          </a:lnTo>
                          <a:lnTo>
                            <a:pt x="40" y="25"/>
                          </a:lnTo>
                          <a:lnTo>
                            <a:pt x="31" y="25"/>
                          </a:lnTo>
                          <a:lnTo>
                            <a:pt x="25" y="19"/>
                          </a:lnTo>
                          <a:lnTo>
                            <a:pt x="17" y="17"/>
                          </a:lnTo>
                          <a:lnTo>
                            <a:pt x="13" y="12"/>
                          </a:lnTo>
                          <a:lnTo>
                            <a:pt x="5" y="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7843680" y="974880"/>
                      <a:ext cx="367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7">
                          <a:moveTo>
                            <a:pt x="0" y="8"/>
                          </a:moveTo>
                          <a:lnTo>
                            <a:pt x="7" y="0"/>
                          </a:lnTo>
                          <a:lnTo>
                            <a:pt x="15" y="1"/>
                          </a:lnTo>
                          <a:lnTo>
                            <a:pt x="22" y="11"/>
                          </a:lnTo>
                          <a:lnTo>
                            <a:pt x="22" y="14"/>
                          </a:lnTo>
                          <a:lnTo>
                            <a:pt x="17" y="16"/>
                          </a:lnTo>
                          <a:lnTo>
                            <a:pt x="13" y="13"/>
                          </a:lnTo>
                          <a:lnTo>
                            <a:pt x="7" y="13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7866000" y="549360"/>
                      <a:ext cx="36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7">
                          <a:moveTo>
                            <a:pt x="5" y="0"/>
                          </a:moveTo>
                          <a:lnTo>
                            <a:pt x="11" y="4"/>
                          </a:lnTo>
                          <a:lnTo>
                            <a:pt x="13" y="4"/>
                          </a:lnTo>
                          <a:lnTo>
                            <a:pt x="21" y="11"/>
                          </a:lnTo>
                          <a:lnTo>
                            <a:pt x="22" y="15"/>
                          </a:lnTo>
                          <a:lnTo>
                            <a:pt x="19" y="17"/>
                          </a:lnTo>
                          <a:lnTo>
                            <a:pt x="19" y="18"/>
                          </a:lnTo>
                          <a:lnTo>
                            <a:pt x="16" y="20"/>
                          </a:lnTo>
                          <a:lnTo>
                            <a:pt x="16" y="21"/>
                          </a:lnTo>
                          <a:lnTo>
                            <a:pt x="13" y="26"/>
                          </a:lnTo>
                          <a:lnTo>
                            <a:pt x="9" y="23"/>
                          </a:lnTo>
                          <a:lnTo>
                            <a:pt x="7" y="25"/>
                          </a:lnTo>
                          <a:lnTo>
                            <a:pt x="0" y="16"/>
                          </a:lnTo>
                          <a:lnTo>
                            <a:pt x="4" y="9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7902720" y="5414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8"/>
                          </a:moveTo>
                          <a:lnTo>
                            <a:pt x="8" y="16"/>
                          </a:lnTo>
                          <a:lnTo>
                            <a:pt x="11" y="13"/>
                          </a:lnTo>
                          <a:lnTo>
                            <a:pt x="16" y="5"/>
                          </a:lnTo>
                          <a:lnTo>
                            <a:pt x="13" y="1"/>
                          </a:lnTo>
                          <a:lnTo>
                            <a:pt x="11" y="2"/>
                          </a:lnTo>
                          <a:lnTo>
                            <a:pt x="8" y="0"/>
                          </a:lnTo>
                          <a:lnTo>
                            <a:pt x="6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7872480" y="5335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9" y="0"/>
                          </a:lnTo>
                          <a:lnTo>
                            <a:pt x="16" y="16"/>
                          </a:lnTo>
                          <a:lnTo>
                            <a:pt x="9" y="16"/>
                          </a:lnTo>
                          <a:lnTo>
                            <a:pt x="9" y="12"/>
                          </a:lnTo>
                          <a:lnTo>
                            <a:pt x="5" y="16"/>
                          </a:lnTo>
                          <a:lnTo>
                            <a:pt x="5" y="16"/>
                          </a:lnTo>
                          <a:lnTo>
                            <a:pt x="2" y="12"/>
                          </a:lnTo>
                          <a:lnTo>
                            <a:pt x="3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7923240" y="592200"/>
                      <a:ext cx="540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60">
                          <a:moveTo>
                            <a:pt x="14" y="33"/>
                          </a:moveTo>
                          <a:lnTo>
                            <a:pt x="9" y="40"/>
                          </a:lnTo>
                          <a:lnTo>
                            <a:pt x="7" y="40"/>
                          </a:lnTo>
                          <a:lnTo>
                            <a:pt x="4" y="41"/>
                          </a:lnTo>
                          <a:lnTo>
                            <a:pt x="2" y="42"/>
                          </a:lnTo>
                          <a:lnTo>
                            <a:pt x="1" y="44"/>
                          </a:lnTo>
                          <a:lnTo>
                            <a:pt x="5" y="44"/>
                          </a:lnTo>
                          <a:lnTo>
                            <a:pt x="7" y="45"/>
                          </a:lnTo>
                          <a:lnTo>
                            <a:pt x="9" y="48"/>
                          </a:lnTo>
                          <a:lnTo>
                            <a:pt x="9" y="49"/>
                          </a:lnTo>
                          <a:lnTo>
                            <a:pt x="12" y="52"/>
                          </a:lnTo>
                          <a:lnTo>
                            <a:pt x="12" y="54"/>
                          </a:lnTo>
                          <a:lnTo>
                            <a:pt x="14" y="54"/>
                          </a:lnTo>
                          <a:lnTo>
                            <a:pt x="21" y="59"/>
                          </a:lnTo>
                          <a:lnTo>
                            <a:pt x="19" y="55"/>
                          </a:lnTo>
                          <a:lnTo>
                            <a:pt x="19" y="52"/>
                          </a:lnTo>
                          <a:lnTo>
                            <a:pt x="21" y="52"/>
                          </a:lnTo>
                          <a:lnTo>
                            <a:pt x="23" y="53"/>
                          </a:lnTo>
                          <a:lnTo>
                            <a:pt x="24" y="53"/>
                          </a:lnTo>
                          <a:lnTo>
                            <a:pt x="25" y="54"/>
                          </a:lnTo>
                          <a:lnTo>
                            <a:pt x="26" y="53"/>
                          </a:lnTo>
                          <a:lnTo>
                            <a:pt x="26" y="50"/>
                          </a:lnTo>
                          <a:lnTo>
                            <a:pt x="24" y="48"/>
                          </a:lnTo>
                          <a:lnTo>
                            <a:pt x="23" y="44"/>
                          </a:lnTo>
                          <a:lnTo>
                            <a:pt x="25" y="40"/>
                          </a:lnTo>
                          <a:lnTo>
                            <a:pt x="31" y="47"/>
                          </a:lnTo>
                          <a:lnTo>
                            <a:pt x="31" y="43"/>
                          </a:lnTo>
                          <a:lnTo>
                            <a:pt x="33" y="38"/>
                          </a:lnTo>
                          <a:lnTo>
                            <a:pt x="28" y="33"/>
                          </a:lnTo>
                          <a:lnTo>
                            <a:pt x="28" y="30"/>
                          </a:lnTo>
                          <a:lnTo>
                            <a:pt x="28" y="22"/>
                          </a:lnTo>
                          <a:lnTo>
                            <a:pt x="22" y="14"/>
                          </a:lnTo>
                          <a:lnTo>
                            <a:pt x="15" y="9"/>
                          </a:lnTo>
                          <a:lnTo>
                            <a:pt x="17" y="6"/>
                          </a:lnTo>
                          <a:lnTo>
                            <a:pt x="14" y="5"/>
                          </a:lnTo>
                          <a:lnTo>
                            <a:pt x="14" y="2"/>
                          </a:lnTo>
                          <a:lnTo>
                            <a:pt x="9" y="6"/>
                          </a:lnTo>
                          <a:lnTo>
                            <a:pt x="7" y="5"/>
                          </a:lnTo>
                          <a:lnTo>
                            <a:pt x="9" y="3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0" y="2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1" y="10"/>
                          </a:lnTo>
                          <a:lnTo>
                            <a:pt x="5" y="12"/>
                          </a:lnTo>
                          <a:lnTo>
                            <a:pt x="4" y="15"/>
                          </a:lnTo>
                          <a:lnTo>
                            <a:pt x="6" y="17"/>
                          </a:lnTo>
                          <a:lnTo>
                            <a:pt x="8" y="18"/>
                          </a:lnTo>
                          <a:lnTo>
                            <a:pt x="11" y="18"/>
                          </a:lnTo>
                          <a:lnTo>
                            <a:pt x="14" y="20"/>
                          </a:lnTo>
                          <a:lnTo>
                            <a:pt x="14" y="24"/>
                          </a:lnTo>
                          <a:lnTo>
                            <a:pt x="14" y="29"/>
                          </a:lnTo>
                          <a:lnTo>
                            <a:pt x="14" y="33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7950240" y="539640"/>
                      <a:ext cx="540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8">
                          <a:moveTo>
                            <a:pt x="0" y="20"/>
                          </a:moveTo>
                          <a:lnTo>
                            <a:pt x="8" y="27"/>
                          </a:lnTo>
                          <a:lnTo>
                            <a:pt x="12" y="23"/>
                          </a:lnTo>
                          <a:lnTo>
                            <a:pt x="15" y="23"/>
                          </a:lnTo>
                          <a:lnTo>
                            <a:pt x="22" y="14"/>
                          </a:lnTo>
                          <a:lnTo>
                            <a:pt x="26" y="14"/>
                          </a:lnTo>
                          <a:lnTo>
                            <a:pt x="31" y="8"/>
                          </a:lnTo>
                          <a:lnTo>
                            <a:pt x="30" y="6"/>
                          </a:lnTo>
                          <a:lnTo>
                            <a:pt x="33" y="4"/>
                          </a:lnTo>
                          <a:lnTo>
                            <a:pt x="31" y="3"/>
                          </a:lnTo>
                          <a:lnTo>
                            <a:pt x="26" y="3"/>
                          </a:lnTo>
                          <a:lnTo>
                            <a:pt x="22" y="2"/>
                          </a:lnTo>
                          <a:lnTo>
                            <a:pt x="19" y="0"/>
                          </a:lnTo>
                          <a:lnTo>
                            <a:pt x="15" y="1"/>
                          </a:lnTo>
                          <a:lnTo>
                            <a:pt x="14" y="3"/>
                          </a:lnTo>
                          <a:lnTo>
                            <a:pt x="14" y="5"/>
                          </a:lnTo>
                          <a:lnTo>
                            <a:pt x="14" y="10"/>
                          </a:lnTo>
                          <a:lnTo>
                            <a:pt x="11" y="11"/>
                          </a:lnTo>
                          <a:lnTo>
                            <a:pt x="10" y="13"/>
                          </a:lnTo>
                          <a:lnTo>
                            <a:pt x="4" y="19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8094600" y="644400"/>
                      <a:ext cx="302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7">
                          <a:moveTo>
                            <a:pt x="0" y="9"/>
                          </a:moveTo>
                          <a:lnTo>
                            <a:pt x="6" y="3"/>
                          </a:ln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lnTo>
                            <a:pt x="12" y="1"/>
                          </a:lnTo>
                          <a:lnTo>
                            <a:pt x="16" y="4"/>
                          </a:lnTo>
                          <a:lnTo>
                            <a:pt x="16" y="6"/>
                          </a:lnTo>
                          <a:lnTo>
                            <a:pt x="18" y="6"/>
                          </a:lnTo>
                          <a:lnTo>
                            <a:pt x="17" y="10"/>
                          </a:lnTo>
                          <a:lnTo>
                            <a:pt x="16" y="10"/>
                          </a:lnTo>
                          <a:lnTo>
                            <a:pt x="16" y="13"/>
                          </a:lnTo>
                          <a:lnTo>
                            <a:pt x="13" y="16"/>
                          </a:lnTo>
                          <a:lnTo>
                            <a:pt x="4" y="16"/>
                          </a:lnTo>
                          <a:lnTo>
                            <a:pt x="3" y="1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986600" y="542880"/>
                      <a:ext cx="96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100">
                          <a:moveTo>
                            <a:pt x="0" y="29"/>
                          </a:moveTo>
                          <a:lnTo>
                            <a:pt x="0" y="21"/>
                          </a:lnTo>
                          <a:lnTo>
                            <a:pt x="3" y="20"/>
                          </a:lnTo>
                          <a:lnTo>
                            <a:pt x="2" y="18"/>
                          </a:lnTo>
                          <a:lnTo>
                            <a:pt x="9" y="10"/>
                          </a:lnTo>
                          <a:lnTo>
                            <a:pt x="12" y="8"/>
                          </a:lnTo>
                          <a:lnTo>
                            <a:pt x="14" y="6"/>
                          </a:lnTo>
                          <a:lnTo>
                            <a:pt x="18" y="4"/>
                          </a:lnTo>
                          <a:lnTo>
                            <a:pt x="19" y="4"/>
                          </a:lnTo>
                          <a:lnTo>
                            <a:pt x="21" y="3"/>
                          </a:lnTo>
                          <a:lnTo>
                            <a:pt x="23" y="1"/>
                          </a:lnTo>
                          <a:lnTo>
                            <a:pt x="27" y="1"/>
                          </a:lnTo>
                          <a:lnTo>
                            <a:pt x="33" y="0"/>
                          </a:lnTo>
                          <a:lnTo>
                            <a:pt x="36" y="4"/>
                          </a:lnTo>
                          <a:lnTo>
                            <a:pt x="36" y="6"/>
                          </a:lnTo>
                          <a:lnTo>
                            <a:pt x="38" y="8"/>
                          </a:lnTo>
                          <a:lnTo>
                            <a:pt x="44" y="2"/>
                          </a:lnTo>
                          <a:lnTo>
                            <a:pt x="44" y="8"/>
                          </a:lnTo>
                          <a:lnTo>
                            <a:pt x="47" y="16"/>
                          </a:lnTo>
                          <a:lnTo>
                            <a:pt x="49" y="24"/>
                          </a:lnTo>
                          <a:lnTo>
                            <a:pt x="54" y="31"/>
                          </a:lnTo>
                          <a:lnTo>
                            <a:pt x="54" y="35"/>
                          </a:lnTo>
                          <a:lnTo>
                            <a:pt x="55" y="43"/>
                          </a:lnTo>
                          <a:lnTo>
                            <a:pt x="57" y="46"/>
                          </a:lnTo>
                          <a:lnTo>
                            <a:pt x="60" y="54"/>
                          </a:lnTo>
                          <a:lnTo>
                            <a:pt x="58" y="59"/>
                          </a:lnTo>
                          <a:lnTo>
                            <a:pt x="57" y="61"/>
                          </a:lnTo>
                          <a:lnTo>
                            <a:pt x="54" y="62"/>
                          </a:lnTo>
                          <a:lnTo>
                            <a:pt x="49" y="65"/>
                          </a:lnTo>
                          <a:lnTo>
                            <a:pt x="47" y="67"/>
                          </a:lnTo>
                          <a:lnTo>
                            <a:pt x="48" y="69"/>
                          </a:lnTo>
                          <a:lnTo>
                            <a:pt x="44" y="73"/>
                          </a:lnTo>
                          <a:lnTo>
                            <a:pt x="42" y="74"/>
                          </a:lnTo>
                          <a:lnTo>
                            <a:pt x="40" y="74"/>
                          </a:lnTo>
                          <a:lnTo>
                            <a:pt x="36" y="77"/>
                          </a:lnTo>
                          <a:lnTo>
                            <a:pt x="37" y="79"/>
                          </a:lnTo>
                          <a:lnTo>
                            <a:pt x="33" y="83"/>
                          </a:lnTo>
                          <a:lnTo>
                            <a:pt x="33" y="86"/>
                          </a:lnTo>
                          <a:lnTo>
                            <a:pt x="32" y="90"/>
                          </a:lnTo>
                          <a:lnTo>
                            <a:pt x="32" y="95"/>
                          </a:lnTo>
                          <a:lnTo>
                            <a:pt x="31" y="97"/>
                          </a:lnTo>
                          <a:lnTo>
                            <a:pt x="29" y="99"/>
                          </a:lnTo>
                          <a:lnTo>
                            <a:pt x="25" y="99"/>
                          </a:lnTo>
                          <a:lnTo>
                            <a:pt x="21" y="98"/>
                          </a:lnTo>
                          <a:lnTo>
                            <a:pt x="16" y="96"/>
                          </a:lnTo>
                          <a:lnTo>
                            <a:pt x="14" y="93"/>
                          </a:lnTo>
                          <a:lnTo>
                            <a:pt x="13" y="90"/>
                          </a:lnTo>
                          <a:lnTo>
                            <a:pt x="13" y="87"/>
                          </a:lnTo>
                          <a:lnTo>
                            <a:pt x="11" y="83"/>
                          </a:lnTo>
                          <a:lnTo>
                            <a:pt x="10" y="80"/>
                          </a:lnTo>
                          <a:lnTo>
                            <a:pt x="11" y="77"/>
                          </a:lnTo>
                          <a:lnTo>
                            <a:pt x="10" y="73"/>
                          </a:lnTo>
                          <a:lnTo>
                            <a:pt x="8" y="72"/>
                          </a:lnTo>
                          <a:lnTo>
                            <a:pt x="11" y="69"/>
                          </a:lnTo>
                          <a:lnTo>
                            <a:pt x="13" y="65"/>
                          </a:lnTo>
                          <a:lnTo>
                            <a:pt x="13" y="63"/>
                          </a:lnTo>
                          <a:lnTo>
                            <a:pt x="12" y="60"/>
                          </a:lnTo>
                          <a:lnTo>
                            <a:pt x="9" y="56"/>
                          </a:lnTo>
                          <a:lnTo>
                            <a:pt x="11" y="51"/>
                          </a:lnTo>
                          <a:lnTo>
                            <a:pt x="10" y="46"/>
                          </a:lnTo>
                          <a:lnTo>
                            <a:pt x="9" y="41"/>
                          </a:lnTo>
                          <a:lnTo>
                            <a:pt x="7" y="35"/>
                          </a:lnTo>
                          <a:lnTo>
                            <a:pt x="4" y="33"/>
                          </a:lnTo>
                          <a:lnTo>
                            <a:pt x="0" y="29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961400" y="768240"/>
                      <a:ext cx="331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1">
                          <a:moveTo>
                            <a:pt x="0" y="14"/>
                          </a:moveTo>
                          <a:lnTo>
                            <a:pt x="7" y="17"/>
                          </a:lnTo>
                          <a:lnTo>
                            <a:pt x="12" y="17"/>
                          </a:lnTo>
                          <a:lnTo>
                            <a:pt x="16" y="19"/>
                          </a:lnTo>
                          <a:lnTo>
                            <a:pt x="18" y="20"/>
                          </a:lnTo>
                          <a:lnTo>
                            <a:pt x="20" y="16"/>
                          </a:lnTo>
                          <a:lnTo>
                            <a:pt x="19" y="14"/>
                          </a:lnTo>
                          <a:lnTo>
                            <a:pt x="20" y="12"/>
                          </a:lnTo>
                          <a:lnTo>
                            <a:pt x="19" y="9"/>
                          </a:lnTo>
                          <a:lnTo>
                            <a:pt x="17" y="11"/>
                          </a:lnTo>
                          <a:lnTo>
                            <a:pt x="12" y="6"/>
                          </a:lnTo>
                          <a:lnTo>
                            <a:pt x="12" y="2"/>
                          </a:lnTo>
                          <a:lnTo>
                            <a:pt x="15" y="0"/>
                          </a:lnTo>
                          <a:lnTo>
                            <a:pt x="13" y="0"/>
                          </a:lnTo>
                          <a:lnTo>
                            <a:pt x="8" y="2"/>
                          </a:lnTo>
                          <a:lnTo>
                            <a:pt x="8" y="5"/>
                          </a:lnTo>
                          <a:lnTo>
                            <a:pt x="6" y="9"/>
                          </a:lnTo>
                          <a:lnTo>
                            <a:pt x="4" y="13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08760" y="746280"/>
                  <a:ext cx="76320" cy="82440"/>
                  <a:chOff x="7808760" y="746280"/>
                  <a:chExt cx="76320" cy="824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7808760" y="746280"/>
                    <a:ext cx="460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2">
                        <a:moveTo>
                          <a:pt x="0" y="3"/>
                        </a:moveTo>
                        <a:lnTo>
                          <a:pt x="4" y="1"/>
                        </a:lnTo>
                        <a:lnTo>
                          <a:pt x="5" y="2"/>
                        </a:lnTo>
                        <a:lnTo>
                          <a:pt x="8" y="1"/>
                        </a:lnTo>
                        <a:lnTo>
                          <a:pt x="12" y="0"/>
                        </a:lnTo>
                        <a:lnTo>
                          <a:pt x="15" y="2"/>
                        </a:lnTo>
                        <a:lnTo>
                          <a:pt x="17" y="2"/>
                        </a:lnTo>
                        <a:lnTo>
                          <a:pt x="18" y="5"/>
                        </a:lnTo>
                        <a:lnTo>
                          <a:pt x="20" y="6"/>
                        </a:lnTo>
                        <a:lnTo>
                          <a:pt x="20" y="9"/>
                        </a:lnTo>
                        <a:lnTo>
                          <a:pt x="20" y="12"/>
                        </a:lnTo>
                        <a:lnTo>
                          <a:pt x="21" y="14"/>
                        </a:lnTo>
                        <a:lnTo>
                          <a:pt x="25" y="19"/>
                        </a:lnTo>
                        <a:lnTo>
                          <a:pt x="26" y="20"/>
                        </a:lnTo>
                        <a:lnTo>
                          <a:pt x="27" y="20"/>
                        </a:lnTo>
                        <a:lnTo>
                          <a:pt x="28" y="23"/>
                        </a:lnTo>
                        <a:lnTo>
                          <a:pt x="25" y="25"/>
                        </a:lnTo>
                        <a:lnTo>
                          <a:pt x="21" y="31"/>
                        </a:lnTo>
                        <a:lnTo>
                          <a:pt x="20" y="30"/>
                        </a:lnTo>
                        <a:lnTo>
                          <a:pt x="19" y="28"/>
                        </a:lnTo>
                        <a:lnTo>
                          <a:pt x="19" y="23"/>
                        </a:lnTo>
                        <a:lnTo>
                          <a:pt x="20" y="21"/>
                        </a:lnTo>
                        <a:lnTo>
                          <a:pt x="20" y="19"/>
                        </a:lnTo>
                        <a:lnTo>
                          <a:pt x="13" y="20"/>
                        </a:lnTo>
                        <a:lnTo>
                          <a:pt x="8" y="25"/>
                        </a:lnTo>
                        <a:lnTo>
                          <a:pt x="8" y="26"/>
                        </a:lnTo>
                        <a:lnTo>
                          <a:pt x="7" y="29"/>
                        </a:lnTo>
                        <a:lnTo>
                          <a:pt x="3" y="30"/>
                        </a:lnTo>
                        <a:lnTo>
                          <a:pt x="2" y="28"/>
                        </a:lnTo>
                        <a:lnTo>
                          <a:pt x="3" y="25"/>
                        </a:lnTo>
                        <a:lnTo>
                          <a:pt x="4" y="23"/>
                        </a:lnTo>
                        <a:lnTo>
                          <a:pt x="5" y="23"/>
                        </a:lnTo>
                        <a:lnTo>
                          <a:pt x="4" y="20"/>
                        </a:lnTo>
                        <a:lnTo>
                          <a:pt x="7" y="16"/>
                        </a:lnTo>
                        <a:lnTo>
                          <a:pt x="9" y="16"/>
                        </a:lnTo>
                        <a:lnTo>
                          <a:pt x="12" y="17"/>
                        </a:lnTo>
                        <a:lnTo>
                          <a:pt x="14" y="15"/>
                        </a:lnTo>
                        <a:lnTo>
                          <a:pt x="16" y="15"/>
                        </a:lnTo>
                        <a:lnTo>
                          <a:pt x="16" y="13"/>
                        </a:lnTo>
                        <a:lnTo>
                          <a:pt x="11" y="12"/>
                        </a:lnTo>
                        <a:lnTo>
                          <a:pt x="11" y="7"/>
                        </a:lnTo>
                        <a:lnTo>
                          <a:pt x="9" y="7"/>
                        </a:lnTo>
                        <a:lnTo>
                          <a:pt x="5" y="7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834320" y="8017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2"/>
                        </a:moveTo>
                        <a:lnTo>
                          <a:pt x="8" y="16"/>
                        </a:lnTo>
                        <a:lnTo>
                          <a:pt x="16" y="4"/>
                        </a:lnTo>
                        <a:lnTo>
                          <a:pt x="8" y="0"/>
                        </a:lnTo>
                        <a:lnTo>
                          <a:pt x="5" y="4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858080" y="798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0"/>
                        </a:moveTo>
                        <a:lnTo>
                          <a:pt x="8" y="16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994520" y="385920"/>
                  <a:ext cx="28800" cy="39600"/>
                  <a:chOff x="7994520" y="385920"/>
                  <a:chExt cx="28800" cy="396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994520" y="3985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1"/>
                        </a:moveTo>
                        <a:lnTo>
                          <a:pt x="16" y="16"/>
                        </a:lnTo>
                        <a:lnTo>
                          <a:pt x="14" y="6"/>
                        </a:lnTo>
                        <a:lnTo>
                          <a:pt x="14" y="0"/>
                        </a:lnTo>
                        <a:lnTo>
                          <a:pt x="8" y="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996320" y="3859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7826400" y="276120"/>
                <a:ext cx="852480" cy="1046160"/>
                <a:chOff x="7826400" y="276120"/>
                <a:chExt cx="852480" cy="1046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8215200" y="736560"/>
                  <a:ext cx="463680" cy="585720"/>
                </a:xfrm>
                <a:custGeom>
                  <a:avLst/>
                  <a:gdLst/>
                  <a:ahLst/>
                  <a:rect l="l" t="t" r="r" b="b"/>
                  <a:pathLst>
                    <a:path w="292" h="369">
                      <a:moveTo>
                        <a:pt x="24" y="56"/>
                      </a:moveTo>
                      <a:lnTo>
                        <a:pt x="41" y="49"/>
                      </a:lnTo>
                      <a:lnTo>
                        <a:pt x="49" y="37"/>
                      </a:lnTo>
                      <a:lnTo>
                        <a:pt x="56" y="34"/>
                      </a:lnTo>
                      <a:lnTo>
                        <a:pt x="68" y="25"/>
                      </a:lnTo>
                      <a:lnTo>
                        <a:pt x="80" y="39"/>
                      </a:lnTo>
                      <a:lnTo>
                        <a:pt x="86" y="34"/>
                      </a:lnTo>
                      <a:lnTo>
                        <a:pt x="90" y="35"/>
                      </a:lnTo>
                      <a:lnTo>
                        <a:pt x="96" y="33"/>
                      </a:lnTo>
                      <a:lnTo>
                        <a:pt x="100" y="33"/>
                      </a:lnTo>
                      <a:lnTo>
                        <a:pt x="108" y="34"/>
                      </a:lnTo>
                      <a:lnTo>
                        <a:pt x="117" y="29"/>
                      </a:lnTo>
                      <a:lnTo>
                        <a:pt x="110" y="22"/>
                      </a:lnTo>
                      <a:lnTo>
                        <a:pt x="119" y="12"/>
                      </a:lnTo>
                      <a:lnTo>
                        <a:pt x="127" y="12"/>
                      </a:lnTo>
                      <a:lnTo>
                        <a:pt x="138" y="2"/>
                      </a:lnTo>
                      <a:lnTo>
                        <a:pt x="146" y="2"/>
                      </a:lnTo>
                      <a:lnTo>
                        <a:pt x="150" y="0"/>
                      </a:lnTo>
                      <a:lnTo>
                        <a:pt x="161" y="2"/>
                      </a:lnTo>
                      <a:lnTo>
                        <a:pt x="166" y="6"/>
                      </a:lnTo>
                      <a:lnTo>
                        <a:pt x="171" y="7"/>
                      </a:lnTo>
                      <a:lnTo>
                        <a:pt x="179" y="11"/>
                      </a:lnTo>
                      <a:lnTo>
                        <a:pt x="188" y="15"/>
                      </a:lnTo>
                      <a:lnTo>
                        <a:pt x="196" y="20"/>
                      </a:lnTo>
                      <a:lnTo>
                        <a:pt x="207" y="30"/>
                      </a:lnTo>
                      <a:lnTo>
                        <a:pt x="211" y="37"/>
                      </a:lnTo>
                      <a:lnTo>
                        <a:pt x="222" y="35"/>
                      </a:lnTo>
                      <a:lnTo>
                        <a:pt x="240" y="38"/>
                      </a:lnTo>
                      <a:lnTo>
                        <a:pt x="249" y="43"/>
                      </a:lnTo>
                      <a:lnTo>
                        <a:pt x="267" y="30"/>
                      </a:lnTo>
                      <a:lnTo>
                        <a:pt x="266" y="23"/>
                      </a:lnTo>
                      <a:lnTo>
                        <a:pt x="272" y="15"/>
                      </a:lnTo>
                      <a:lnTo>
                        <a:pt x="279" y="12"/>
                      </a:lnTo>
                      <a:lnTo>
                        <a:pt x="282" y="23"/>
                      </a:lnTo>
                      <a:lnTo>
                        <a:pt x="283" y="37"/>
                      </a:lnTo>
                      <a:lnTo>
                        <a:pt x="287" y="52"/>
                      </a:lnTo>
                      <a:lnTo>
                        <a:pt x="287" y="63"/>
                      </a:lnTo>
                      <a:lnTo>
                        <a:pt x="280" y="72"/>
                      </a:lnTo>
                      <a:lnTo>
                        <a:pt x="288" y="75"/>
                      </a:lnTo>
                      <a:lnTo>
                        <a:pt x="285" y="86"/>
                      </a:lnTo>
                      <a:lnTo>
                        <a:pt x="283" y="100"/>
                      </a:lnTo>
                      <a:lnTo>
                        <a:pt x="279" y="111"/>
                      </a:lnTo>
                      <a:lnTo>
                        <a:pt x="274" y="119"/>
                      </a:lnTo>
                      <a:lnTo>
                        <a:pt x="271" y="125"/>
                      </a:lnTo>
                      <a:lnTo>
                        <a:pt x="272" y="135"/>
                      </a:lnTo>
                      <a:lnTo>
                        <a:pt x="275" y="146"/>
                      </a:lnTo>
                      <a:lnTo>
                        <a:pt x="272" y="154"/>
                      </a:lnTo>
                      <a:lnTo>
                        <a:pt x="274" y="160"/>
                      </a:lnTo>
                      <a:lnTo>
                        <a:pt x="276" y="165"/>
                      </a:lnTo>
                      <a:lnTo>
                        <a:pt x="280" y="173"/>
                      </a:lnTo>
                      <a:lnTo>
                        <a:pt x="291" y="184"/>
                      </a:lnTo>
                      <a:lnTo>
                        <a:pt x="289" y="194"/>
                      </a:lnTo>
                      <a:lnTo>
                        <a:pt x="284" y="214"/>
                      </a:lnTo>
                      <a:lnTo>
                        <a:pt x="278" y="235"/>
                      </a:lnTo>
                      <a:lnTo>
                        <a:pt x="273" y="250"/>
                      </a:lnTo>
                      <a:lnTo>
                        <a:pt x="266" y="267"/>
                      </a:lnTo>
                      <a:lnTo>
                        <a:pt x="257" y="287"/>
                      </a:lnTo>
                      <a:lnTo>
                        <a:pt x="249" y="303"/>
                      </a:lnTo>
                      <a:lnTo>
                        <a:pt x="239" y="321"/>
                      </a:lnTo>
                      <a:lnTo>
                        <a:pt x="230" y="333"/>
                      </a:lnTo>
                      <a:lnTo>
                        <a:pt x="221" y="347"/>
                      </a:lnTo>
                      <a:lnTo>
                        <a:pt x="208" y="363"/>
                      </a:lnTo>
                      <a:lnTo>
                        <a:pt x="197" y="368"/>
                      </a:lnTo>
                      <a:lnTo>
                        <a:pt x="187" y="365"/>
                      </a:lnTo>
                      <a:lnTo>
                        <a:pt x="182" y="354"/>
                      </a:lnTo>
                      <a:lnTo>
                        <a:pt x="185" y="351"/>
                      </a:lnTo>
                      <a:lnTo>
                        <a:pt x="187" y="342"/>
                      </a:lnTo>
                      <a:lnTo>
                        <a:pt x="182" y="337"/>
                      </a:lnTo>
                      <a:lnTo>
                        <a:pt x="182" y="331"/>
                      </a:lnTo>
                      <a:lnTo>
                        <a:pt x="178" y="326"/>
                      </a:lnTo>
                      <a:lnTo>
                        <a:pt x="178" y="309"/>
                      </a:lnTo>
                      <a:lnTo>
                        <a:pt x="173" y="298"/>
                      </a:lnTo>
                      <a:lnTo>
                        <a:pt x="171" y="291"/>
                      </a:lnTo>
                      <a:lnTo>
                        <a:pt x="165" y="285"/>
                      </a:lnTo>
                      <a:lnTo>
                        <a:pt x="157" y="277"/>
                      </a:lnTo>
                      <a:lnTo>
                        <a:pt x="164" y="266"/>
                      </a:lnTo>
                      <a:lnTo>
                        <a:pt x="165" y="257"/>
                      </a:lnTo>
                      <a:lnTo>
                        <a:pt x="165" y="251"/>
                      </a:lnTo>
                      <a:lnTo>
                        <a:pt x="171" y="248"/>
                      </a:lnTo>
                      <a:lnTo>
                        <a:pt x="168" y="240"/>
                      </a:lnTo>
                      <a:lnTo>
                        <a:pt x="166" y="230"/>
                      </a:lnTo>
                      <a:lnTo>
                        <a:pt x="164" y="220"/>
                      </a:lnTo>
                      <a:lnTo>
                        <a:pt x="138" y="199"/>
                      </a:lnTo>
                      <a:lnTo>
                        <a:pt x="135" y="193"/>
                      </a:lnTo>
                      <a:lnTo>
                        <a:pt x="138" y="179"/>
                      </a:lnTo>
                      <a:lnTo>
                        <a:pt x="131" y="173"/>
                      </a:lnTo>
                      <a:lnTo>
                        <a:pt x="125" y="176"/>
                      </a:lnTo>
                      <a:lnTo>
                        <a:pt x="111" y="178"/>
                      </a:lnTo>
                      <a:lnTo>
                        <a:pt x="107" y="172"/>
                      </a:lnTo>
                      <a:lnTo>
                        <a:pt x="99" y="179"/>
                      </a:lnTo>
                      <a:lnTo>
                        <a:pt x="94" y="187"/>
                      </a:lnTo>
                      <a:lnTo>
                        <a:pt x="85" y="187"/>
                      </a:lnTo>
                      <a:lnTo>
                        <a:pt x="78" y="192"/>
                      </a:lnTo>
                      <a:lnTo>
                        <a:pt x="69" y="192"/>
                      </a:lnTo>
                      <a:lnTo>
                        <a:pt x="59" y="199"/>
                      </a:lnTo>
                      <a:lnTo>
                        <a:pt x="46" y="198"/>
                      </a:lnTo>
                      <a:lnTo>
                        <a:pt x="29" y="186"/>
                      </a:lnTo>
                      <a:lnTo>
                        <a:pt x="15" y="175"/>
                      </a:lnTo>
                      <a:lnTo>
                        <a:pt x="8" y="168"/>
                      </a:lnTo>
                      <a:lnTo>
                        <a:pt x="8" y="145"/>
                      </a:lnTo>
                      <a:lnTo>
                        <a:pt x="0" y="138"/>
                      </a:lnTo>
                      <a:lnTo>
                        <a:pt x="0" y="131"/>
                      </a:lnTo>
                      <a:lnTo>
                        <a:pt x="1" y="124"/>
                      </a:lnTo>
                      <a:lnTo>
                        <a:pt x="7" y="116"/>
                      </a:lnTo>
                      <a:lnTo>
                        <a:pt x="3" y="108"/>
                      </a:lnTo>
                      <a:lnTo>
                        <a:pt x="7" y="99"/>
                      </a:lnTo>
                      <a:lnTo>
                        <a:pt x="13" y="95"/>
                      </a:lnTo>
                      <a:lnTo>
                        <a:pt x="18" y="90"/>
                      </a:lnTo>
                      <a:lnTo>
                        <a:pt x="18" y="85"/>
                      </a:lnTo>
                      <a:lnTo>
                        <a:pt x="13" y="81"/>
                      </a:lnTo>
                      <a:lnTo>
                        <a:pt x="13" y="75"/>
                      </a:lnTo>
                      <a:lnTo>
                        <a:pt x="17" y="71"/>
                      </a:lnTo>
                      <a:lnTo>
                        <a:pt x="24" y="56"/>
                      </a:lnTo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8583480" y="950760"/>
                  <a:ext cx="63720" cy="127080"/>
                  <a:chOff x="8583480" y="950760"/>
                  <a:chExt cx="63720" cy="12708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8583480" y="950760"/>
                    <a:ext cx="270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">
                        <a:moveTo>
                          <a:pt x="11" y="0"/>
                        </a:moveTo>
                        <a:lnTo>
                          <a:pt x="0" y="6"/>
                        </a:lnTo>
                        <a:lnTo>
                          <a:pt x="4" y="15"/>
                        </a:lnTo>
                        <a:lnTo>
                          <a:pt x="8" y="22"/>
                        </a:lnTo>
                        <a:lnTo>
                          <a:pt x="16" y="1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8620200" y="1039680"/>
                    <a:ext cx="27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0" y="0"/>
                        </a:moveTo>
                        <a:lnTo>
                          <a:pt x="0" y="5"/>
                        </a:lnTo>
                        <a:lnTo>
                          <a:pt x="2" y="12"/>
                        </a:lnTo>
                        <a:lnTo>
                          <a:pt x="4" y="22"/>
                        </a:lnTo>
                        <a:lnTo>
                          <a:pt x="16" y="23"/>
                        </a:lnTo>
                        <a:lnTo>
                          <a:pt x="16" y="16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7826400" y="276120"/>
                  <a:ext cx="799920" cy="554040"/>
                </a:xfrm>
                <a:custGeom>
                  <a:avLst/>
                  <a:gdLst/>
                  <a:ahLst/>
                  <a:rect l="l" t="t" r="r" b="b"/>
                  <a:pathLst>
                    <a:path w="504" h="349">
                      <a:moveTo>
                        <a:pt x="245" y="324"/>
                      </a:moveTo>
                      <a:lnTo>
                        <a:pt x="252" y="334"/>
                      </a:lnTo>
                      <a:lnTo>
                        <a:pt x="249" y="339"/>
                      </a:lnTo>
                      <a:lnTo>
                        <a:pt x="252" y="344"/>
                      </a:lnTo>
                      <a:lnTo>
                        <a:pt x="257" y="348"/>
                      </a:lnTo>
                      <a:lnTo>
                        <a:pt x="263" y="347"/>
                      </a:lnTo>
                      <a:lnTo>
                        <a:pt x="270" y="339"/>
                      </a:lnTo>
                      <a:lnTo>
                        <a:pt x="278" y="334"/>
                      </a:lnTo>
                      <a:lnTo>
                        <a:pt x="281" y="330"/>
                      </a:lnTo>
                      <a:lnTo>
                        <a:pt x="280" y="325"/>
                      </a:lnTo>
                      <a:lnTo>
                        <a:pt x="279" y="319"/>
                      </a:lnTo>
                      <a:lnTo>
                        <a:pt x="279" y="313"/>
                      </a:lnTo>
                      <a:lnTo>
                        <a:pt x="283" y="311"/>
                      </a:lnTo>
                      <a:lnTo>
                        <a:pt x="283" y="305"/>
                      </a:lnTo>
                      <a:lnTo>
                        <a:pt x="281" y="302"/>
                      </a:lnTo>
                      <a:lnTo>
                        <a:pt x="284" y="299"/>
                      </a:lnTo>
                      <a:lnTo>
                        <a:pt x="289" y="300"/>
                      </a:lnTo>
                      <a:lnTo>
                        <a:pt x="290" y="297"/>
                      </a:lnTo>
                      <a:lnTo>
                        <a:pt x="290" y="293"/>
                      </a:lnTo>
                      <a:lnTo>
                        <a:pt x="292" y="289"/>
                      </a:lnTo>
                      <a:lnTo>
                        <a:pt x="303" y="291"/>
                      </a:lnTo>
                      <a:lnTo>
                        <a:pt x="307" y="294"/>
                      </a:lnTo>
                      <a:lnTo>
                        <a:pt x="327" y="292"/>
                      </a:lnTo>
                      <a:lnTo>
                        <a:pt x="328" y="288"/>
                      </a:lnTo>
                      <a:lnTo>
                        <a:pt x="322" y="283"/>
                      </a:lnTo>
                      <a:lnTo>
                        <a:pt x="309" y="284"/>
                      </a:lnTo>
                      <a:lnTo>
                        <a:pt x="302" y="283"/>
                      </a:lnTo>
                      <a:lnTo>
                        <a:pt x="300" y="281"/>
                      </a:lnTo>
                      <a:lnTo>
                        <a:pt x="300" y="276"/>
                      </a:lnTo>
                      <a:lnTo>
                        <a:pt x="302" y="274"/>
                      </a:lnTo>
                      <a:lnTo>
                        <a:pt x="307" y="278"/>
                      </a:lnTo>
                      <a:lnTo>
                        <a:pt x="315" y="278"/>
                      </a:lnTo>
                      <a:lnTo>
                        <a:pt x="320" y="278"/>
                      </a:lnTo>
                      <a:lnTo>
                        <a:pt x="325" y="278"/>
                      </a:lnTo>
                      <a:lnTo>
                        <a:pt x="330" y="281"/>
                      </a:lnTo>
                      <a:lnTo>
                        <a:pt x="336" y="284"/>
                      </a:lnTo>
                      <a:lnTo>
                        <a:pt x="342" y="285"/>
                      </a:lnTo>
                      <a:lnTo>
                        <a:pt x="342" y="280"/>
                      </a:lnTo>
                      <a:lnTo>
                        <a:pt x="346" y="278"/>
                      </a:lnTo>
                      <a:lnTo>
                        <a:pt x="344" y="274"/>
                      </a:lnTo>
                      <a:lnTo>
                        <a:pt x="341" y="271"/>
                      </a:lnTo>
                      <a:lnTo>
                        <a:pt x="342" y="268"/>
                      </a:lnTo>
                      <a:lnTo>
                        <a:pt x="343" y="265"/>
                      </a:lnTo>
                      <a:lnTo>
                        <a:pt x="348" y="259"/>
                      </a:lnTo>
                      <a:lnTo>
                        <a:pt x="351" y="262"/>
                      </a:lnTo>
                      <a:lnTo>
                        <a:pt x="348" y="268"/>
                      </a:lnTo>
                      <a:lnTo>
                        <a:pt x="352" y="270"/>
                      </a:lnTo>
                      <a:lnTo>
                        <a:pt x="356" y="271"/>
                      </a:lnTo>
                      <a:lnTo>
                        <a:pt x="360" y="274"/>
                      </a:lnTo>
                      <a:lnTo>
                        <a:pt x="366" y="274"/>
                      </a:lnTo>
                      <a:lnTo>
                        <a:pt x="370" y="273"/>
                      </a:lnTo>
                      <a:lnTo>
                        <a:pt x="372" y="269"/>
                      </a:lnTo>
                      <a:lnTo>
                        <a:pt x="372" y="265"/>
                      </a:lnTo>
                      <a:lnTo>
                        <a:pt x="375" y="262"/>
                      </a:lnTo>
                      <a:lnTo>
                        <a:pt x="380" y="260"/>
                      </a:lnTo>
                      <a:lnTo>
                        <a:pt x="382" y="257"/>
                      </a:lnTo>
                      <a:lnTo>
                        <a:pt x="381" y="253"/>
                      </a:lnTo>
                      <a:lnTo>
                        <a:pt x="383" y="250"/>
                      </a:lnTo>
                      <a:lnTo>
                        <a:pt x="388" y="257"/>
                      </a:lnTo>
                      <a:lnTo>
                        <a:pt x="391" y="262"/>
                      </a:lnTo>
                      <a:lnTo>
                        <a:pt x="393" y="265"/>
                      </a:lnTo>
                      <a:lnTo>
                        <a:pt x="395" y="269"/>
                      </a:lnTo>
                      <a:lnTo>
                        <a:pt x="397" y="273"/>
                      </a:lnTo>
                      <a:lnTo>
                        <a:pt x="397" y="278"/>
                      </a:lnTo>
                      <a:lnTo>
                        <a:pt x="397" y="282"/>
                      </a:lnTo>
                      <a:lnTo>
                        <a:pt x="399" y="286"/>
                      </a:lnTo>
                      <a:lnTo>
                        <a:pt x="404" y="289"/>
                      </a:lnTo>
                      <a:lnTo>
                        <a:pt x="409" y="289"/>
                      </a:lnTo>
                      <a:lnTo>
                        <a:pt x="415" y="288"/>
                      </a:lnTo>
                      <a:lnTo>
                        <a:pt x="424" y="289"/>
                      </a:lnTo>
                      <a:lnTo>
                        <a:pt x="434" y="295"/>
                      </a:lnTo>
                      <a:lnTo>
                        <a:pt x="439" y="294"/>
                      </a:lnTo>
                      <a:lnTo>
                        <a:pt x="443" y="299"/>
                      </a:lnTo>
                      <a:lnTo>
                        <a:pt x="447" y="302"/>
                      </a:lnTo>
                      <a:lnTo>
                        <a:pt x="455" y="305"/>
                      </a:lnTo>
                      <a:lnTo>
                        <a:pt x="461" y="305"/>
                      </a:lnTo>
                      <a:lnTo>
                        <a:pt x="467" y="307"/>
                      </a:lnTo>
                      <a:lnTo>
                        <a:pt x="474" y="312"/>
                      </a:lnTo>
                      <a:lnTo>
                        <a:pt x="483" y="321"/>
                      </a:lnTo>
                      <a:lnTo>
                        <a:pt x="490" y="327"/>
                      </a:lnTo>
                      <a:lnTo>
                        <a:pt x="494" y="319"/>
                      </a:lnTo>
                      <a:lnTo>
                        <a:pt x="496" y="312"/>
                      </a:lnTo>
                      <a:lnTo>
                        <a:pt x="500" y="304"/>
                      </a:lnTo>
                      <a:lnTo>
                        <a:pt x="502" y="292"/>
                      </a:lnTo>
                      <a:lnTo>
                        <a:pt x="503" y="279"/>
                      </a:lnTo>
                      <a:lnTo>
                        <a:pt x="501" y="276"/>
                      </a:lnTo>
                      <a:lnTo>
                        <a:pt x="503" y="261"/>
                      </a:lnTo>
                      <a:lnTo>
                        <a:pt x="502" y="251"/>
                      </a:lnTo>
                      <a:lnTo>
                        <a:pt x="500" y="245"/>
                      </a:lnTo>
                      <a:lnTo>
                        <a:pt x="500" y="236"/>
                      </a:lnTo>
                      <a:lnTo>
                        <a:pt x="496" y="232"/>
                      </a:lnTo>
                      <a:lnTo>
                        <a:pt x="494" y="228"/>
                      </a:lnTo>
                      <a:lnTo>
                        <a:pt x="491" y="222"/>
                      </a:lnTo>
                      <a:lnTo>
                        <a:pt x="491" y="217"/>
                      </a:lnTo>
                      <a:lnTo>
                        <a:pt x="488" y="213"/>
                      </a:lnTo>
                      <a:lnTo>
                        <a:pt x="482" y="213"/>
                      </a:lnTo>
                      <a:lnTo>
                        <a:pt x="478" y="213"/>
                      </a:lnTo>
                      <a:lnTo>
                        <a:pt x="476" y="217"/>
                      </a:lnTo>
                      <a:lnTo>
                        <a:pt x="472" y="218"/>
                      </a:lnTo>
                      <a:lnTo>
                        <a:pt x="467" y="218"/>
                      </a:lnTo>
                      <a:lnTo>
                        <a:pt x="467" y="225"/>
                      </a:lnTo>
                      <a:lnTo>
                        <a:pt x="468" y="230"/>
                      </a:lnTo>
                      <a:lnTo>
                        <a:pt x="467" y="234"/>
                      </a:lnTo>
                      <a:lnTo>
                        <a:pt x="466" y="238"/>
                      </a:lnTo>
                      <a:lnTo>
                        <a:pt x="462" y="240"/>
                      </a:lnTo>
                      <a:lnTo>
                        <a:pt x="458" y="240"/>
                      </a:lnTo>
                      <a:lnTo>
                        <a:pt x="455" y="238"/>
                      </a:lnTo>
                      <a:lnTo>
                        <a:pt x="452" y="237"/>
                      </a:lnTo>
                      <a:lnTo>
                        <a:pt x="450" y="237"/>
                      </a:lnTo>
                      <a:lnTo>
                        <a:pt x="446" y="236"/>
                      </a:lnTo>
                      <a:lnTo>
                        <a:pt x="442" y="236"/>
                      </a:lnTo>
                      <a:lnTo>
                        <a:pt x="438" y="235"/>
                      </a:lnTo>
                      <a:lnTo>
                        <a:pt x="435" y="231"/>
                      </a:lnTo>
                      <a:lnTo>
                        <a:pt x="440" y="227"/>
                      </a:lnTo>
                      <a:lnTo>
                        <a:pt x="443" y="227"/>
                      </a:lnTo>
                      <a:lnTo>
                        <a:pt x="445" y="228"/>
                      </a:lnTo>
                      <a:lnTo>
                        <a:pt x="449" y="228"/>
                      </a:lnTo>
                      <a:lnTo>
                        <a:pt x="455" y="224"/>
                      </a:lnTo>
                      <a:lnTo>
                        <a:pt x="458" y="219"/>
                      </a:lnTo>
                      <a:lnTo>
                        <a:pt x="463" y="213"/>
                      </a:lnTo>
                      <a:lnTo>
                        <a:pt x="467" y="208"/>
                      </a:lnTo>
                      <a:lnTo>
                        <a:pt x="469" y="203"/>
                      </a:lnTo>
                      <a:lnTo>
                        <a:pt x="473" y="199"/>
                      </a:lnTo>
                      <a:lnTo>
                        <a:pt x="474" y="194"/>
                      </a:lnTo>
                      <a:lnTo>
                        <a:pt x="477" y="184"/>
                      </a:lnTo>
                      <a:lnTo>
                        <a:pt x="462" y="163"/>
                      </a:lnTo>
                      <a:lnTo>
                        <a:pt x="447" y="144"/>
                      </a:lnTo>
                      <a:lnTo>
                        <a:pt x="432" y="127"/>
                      </a:lnTo>
                      <a:lnTo>
                        <a:pt x="417" y="113"/>
                      </a:lnTo>
                      <a:lnTo>
                        <a:pt x="406" y="103"/>
                      </a:lnTo>
                      <a:lnTo>
                        <a:pt x="397" y="94"/>
                      </a:lnTo>
                      <a:lnTo>
                        <a:pt x="384" y="84"/>
                      </a:lnTo>
                      <a:lnTo>
                        <a:pt x="371" y="75"/>
                      </a:lnTo>
                      <a:lnTo>
                        <a:pt x="355" y="63"/>
                      </a:lnTo>
                      <a:lnTo>
                        <a:pt x="341" y="54"/>
                      </a:lnTo>
                      <a:lnTo>
                        <a:pt x="327" y="47"/>
                      </a:lnTo>
                      <a:lnTo>
                        <a:pt x="313" y="41"/>
                      </a:lnTo>
                      <a:lnTo>
                        <a:pt x="296" y="33"/>
                      </a:lnTo>
                      <a:lnTo>
                        <a:pt x="272" y="23"/>
                      </a:lnTo>
                      <a:lnTo>
                        <a:pt x="246" y="15"/>
                      </a:lnTo>
                      <a:lnTo>
                        <a:pt x="224" y="9"/>
                      </a:lnTo>
                      <a:lnTo>
                        <a:pt x="208" y="7"/>
                      </a:lnTo>
                      <a:lnTo>
                        <a:pt x="185" y="3"/>
                      </a:lnTo>
                      <a:lnTo>
                        <a:pt x="157" y="0"/>
                      </a:lnTo>
                      <a:lnTo>
                        <a:pt x="121" y="0"/>
                      </a:lnTo>
                      <a:lnTo>
                        <a:pt x="92" y="2"/>
                      </a:lnTo>
                      <a:lnTo>
                        <a:pt x="90" y="7"/>
                      </a:lnTo>
                      <a:lnTo>
                        <a:pt x="84" y="8"/>
                      </a:lnTo>
                      <a:lnTo>
                        <a:pt x="80" y="9"/>
                      </a:lnTo>
                      <a:lnTo>
                        <a:pt x="73" y="9"/>
                      </a:lnTo>
                      <a:lnTo>
                        <a:pt x="65" y="12"/>
                      </a:lnTo>
                      <a:lnTo>
                        <a:pt x="56" y="14"/>
                      </a:lnTo>
                      <a:lnTo>
                        <a:pt x="50" y="21"/>
                      </a:lnTo>
                      <a:lnTo>
                        <a:pt x="48" y="26"/>
                      </a:lnTo>
                      <a:lnTo>
                        <a:pt x="43" y="33"/>
                      </a:lnTo>
                      <a:lnTo>
                        <a:pt x="37" y="33"/>
                      </a:lnTo>
                      <a:lnTo>
                        <a:pt x="31" y="38"/>
                      </a:lnTo>
                      <a:lnTo>
                        <a:pt x="31" y="30"/>
                      </a:lnTo>
                      <a:lnTo>
                        <a:pt x="36" y="17"/>
                      </a:lnTo>
                      <a:lnTo>
                        <a:pt x="37" y="12"/>
                      </a:lnTo>
                      <a:lnTo>
                        <a:pt x="23" y="15"/>
                      </a:lnTo>
                      <a:lnTo>
                        <a:pt x="13" y="18"/>
                      </a:lnTo>
                      <a:lnTo>
                        <a:pt x="13" y="23"/>
                      </a:lnTo>
                      <a:lnTo>
                        <a:pt x="22" y="29"/>
                      </a:lnTo>
                      <a:lnTo>
                        <a:pt x="21" y="33"/>
                      </a:lnTo>
                      <a:lnTo>
                        <a:pt x="19" y="39"/>
                      </a:lnTo>
                      <a:lnTo>
                        <a:pt x="15" y="44"/>
                      </a:lnTo>
                      <a:lnTo>
                        <a:pt x="8" y="49"/>
                      </a:lnTo>
                      <a:lnTo>
                        <a:pt x="7" y="57"/>
                      </a:lnTo>
                      <a:lnTo>
                        <a:pt x="5" y="65"/>
                      </a:lnTo>
                      <a:lnTo>
                        <a:pt x="5" y="71"/>
                      </a:lnTo>
                      <a:lnTo>
                        <a:pt x="13" y="70"/>
                      </a:lnTo>
                      <a:lnTo>
                        <a:pt x="13" y="80"/>
                      </a:lnTo>
                      <a:lnTo>
                        <a:pt x="6" y="83"/>
                      </a:lnTo>
                      <a:lnTo>
                        <a:pt x="0" y="89"/>
                      </a:lnTo>
                      <a:lnTo>
                        <a:pt x="7" y="96"/>
                      </a:lnTo>
                      <a:lnTo>
                        <a:pt x="15" y="89"/>
                      </a:lnTo>
                      <a:lnTo>
                        <a:pt x="19" y="88"/>
                      </a:lnTo>
                      <a:lnTo>
                        <a:pt x="26" y="87"/>
                      </a:lnTo>
                      <a:lnTo>
                        <a:pt x="32" y="84"/>
                      </a:lnTo>
                      <a:lnTo>
                        <a:pt x="37" y="83"/>
                      </a:lnTo>
                      <a:lnTo>
                        <a:pt x="43" y="78"/>
                      </a:lnTo>
                      <a:lnTo>
                        <a:pt x="49" y="70"/>
                      </a:lnTo>
                      <a:lnTo>
                        <a:pt x="54" y="68"/>
                      </a:lnTo>
                      <a:lnTo>
                        <a:pt x="60" y="66"/>
                      </a:lnTo>
                      <a:lnTo>
                        <a:pt x="67" y="65"/>
                      </a:lnTo>
                      <a:lnTo>
                        <a:pt x="70" y="66"/>
                      </a:lnTo>
                      <a:lnTo>
                        <a:pt x="75" y="65"/>
                      </a:lnTo>
                      <a:lnTo>
                        <a:pt x="78" y="64"/>
                      </a:lnTo>
                      <a:lnTo>
                        <a:pt x="87" y="63"/>
                      </a:lnTo>
                      <a:lnTo>
                        <a:pt x="91" y="65"/>
                      </a:lnTo>
                      <a:lnTo>
                        <a:pt x="100" y="66"/>
                      </a:lnTo>
                      <a:lnTo>
                        <a:pt x="106" y="64"/>
                      </a:lnTo>
                      <a:lnTo>
                        <a:pt x="112" y="59"/>
                      </a:lnTo>
                      <a:lnTo>
                        <a:pt x="120" y="60"/>
                      </a:lnTo>
                      <a:lnTo>
                        <a:pt x="127" y="59"/>
                      </a:lnTo>
                      <a:lnTo>
                        <a:pt x="131" y="59"/>
                      </a:lnTo>
                      <a:lnTo>
                        <a:pt x="130" y="65"/>
                      </a:lnTo>
                      <a:lnTo>
                        <a:pt x="133" y="67"/>
                      </a:lnTo>
                      <a:lnTo>
                        <a:pt x="137" y="70"/>
                      </a:lnTo>
                      <a:lnTo>
                        <a:pt x="142" y="67"/>
                      </a:lnTo>
                      <a:lnTo>
                        <a:pt x="148" y="69"/>
                      </a:lnTo>
                      <a:lnTo>
                        <a:pt x="154" y="72"/>
                      </a:lnTo>
                      <a:lnTo>
                        <a:pt x="160" y="73"/>
                      </a:lnTo>
                      <a:lnTo>
                        <a:pt x="171" y="75"/>
                      </a:lnTo>
                      <a:lnTo>
                        <a:pt x="159" y="76"/>
                      </a:lnTo>
                      <a:lnTo>
                        <a:pt x="154" y="78"/>
                      </a:lnTo>
                      <a:lnTo>
                        <a:pt x="151" y="81"/>
                      </a:lnTo>
                      <a:lnTo>
                        <a:pt x="156" y="89"/>
                      </a:lnTo>
                      <a:lnTo>
                        <a:pt x="159" y="93"/>
                      </a:lnTo>
                      <a:lnTo>
                        <a:pt x="168" y="92"/>
                      </a:lnTo>
                      <a:lnTo>
                        <a:pt x="174" y="94"/>
                      </a:lnTo>
                      <a:lnTo>
                        <a:pt x="182" y="98"/>
                      </a:lnTo>
                      <a:lnTo>
                        <a:pt x="190" y="98"/>
                      </a:lnTo>
                      <a:lnTo>
                        <a:pt x="195" y="99"/>
                      </a:lnTo>
                      <a:lnTo>
                        <a:pt x="206" y="92"/>
                      </a:lnTo>
                      <a:lnTo>
                        <a:pt x="209" y="92"/>
                      </a:lnTo>
                      <a:lnTo>
                        <a:pt x="203" y="98"/>
                      </a:lnTo>
                      <a:lnTo>
                        <a:pt x="210" y="106"/>
                      </a:lnTo>
                      <a:lnTo>
                        <a:pt x="223" y="103"/>
                      </a:lnTo>
                      <a:lnTo>
                        <a:pt x="225" y="101"/>
                      </a:lnTo>
                      <a:lnTo>
                        <a:pt x="225" y="96"/>
                      </a:lnTo>
                      <a:lnTo>
                        <a:pt x="230" y="98"/>
                      </a:lnTo>
                      <a:lnTo>
                        <a:pt x="238" y="104"/>
                      </a:lnTo>
                      <a:lnTo>
                        <a:pt x="230" y="103"/>
                      </a:lnTo>
                      <a:lnTo>
                        <a:pt x="228" y="105"/>
                      </a:lnTo>
                      <a:lnTo>
                        <a:pt x="224" y="106"/>
                      </a:lnTo>
                      <a:lnTo>
                        <a:pt x="220" y="107"/>
                      </a:lnTo>
                      <a:lnTo>
                        <a:pt x="215" y="108"/>
                      </a:lnTo>
                      <a:lnTo>
                        <a:pt x="209" y="112"/>
                      </a:lnTo>
                      <a:lnTo>
                        <a:pt x="215" y="114"/>
                      </a:lnTo>
                      <a:lnTo>
                        <a:pt x="231" y="114"/>
                      </a:lnTo>
                      <a:lnTo>
                        <a:pt x="229" y="120"/>
                      </a:lnTo>
                      <a:lnTo>
                        <a:pt x="228" y="127"/>
                      </a:lnTo>
                      <a:lnTo>
                        <a:pt x="233" y="128"/>
                      </a:lnTo>
                      <a:lnTo>
                        <a:pt x="236" y="131"/>
                      </a:lnTo>
                      <a:lnTo>
                        <a:pt x="238" y="139"/>
                      </a:lnTo>
                      <a:lnTo>
                        <a:pt x="241" y="143"/>
                      </a:lnTo>
                      <a:lnTo>
                        <a:pt x="241" y="147"/>
                      </a:lnTo>
                      <a:lnTo>
                        <a:pt x="241" y="152"/>
                      </a:lnTo>
                      <a:lnTo>
                        <a:pt x="256" y="165"/>
                      </a:lnTo>
                      <a:lnTo>
                        <a:pt x="255" y="170"/>
                      </a:lnTo>
                      <a:lnTo>
                        <a:pt x="253" y="173"/>
                      </a:lnTo>
                      <a:lnTo>
                        <a:pt x="250" y="171"/>
                      </a:lnTo>
                      <a:lnTo>
                        <a:pt x="246" y="170"/>
                      </a:lnTo>
                      <a:lnTo>
                        <a:pt x="244" y="170"/>
                      </a:lnTo>
                      <a:lnTo>
                        <a:pt x="242" y="170"/>
                      </a:lnTo>
                      <a:lnTo>
                        <a:pt x="248" y="164"/>
                      </a:lnTo>
                      <a:lnTo>
                        <a:pt x="246" y="160"/>
                      </a:lnTo>
                      <a:lnTo>
                        <a:pt x="241" y="159"/>
                      </a:lnTo>
                      <a:lnTo>
                        <a:pt x="238" y="159"/>
                      </a:lnTo>
                      <a:lnTo>
                        <a:pt x="236" y="160"/>
                      </a:lnTo>
                      <a:lnTo>
                        <a:pt x="230" y="163"/>
                      </a:lnTo>
                      <a:lnTo>
                        <a:pt x="228" y="165"/>
                      </a:lnTo>
                      <a:lnTo>
                        <a:pt x="221" y="166"/>
                      </a:lnTo>
                      <a:lnTo>
                        <a:pt x="216" y="166"/>
                      </a:lnTo>
                      <a:lnTo>
                        <a:pt x="217" y="171"/>
                      </a:lnTo>
                      <a:lnTo>
                        <a:pt x="217" y="178"/>
                      </a:lnTo>
                      <a:lnTo>
                        <a:pt x="216" y="184"/>
                      </a:lnTo>
                      <a:lnTo>
                        <a:pt x="217" y="190"/>
                      </a:lnTo>
                      <a:lnTo>
                        <a:pt x="220" y="194"/>
                      </a:lnTo>
                      <a:lnTo>
                        <a:pt x="219" y="199"/>
                      </a:lnTo>
                      <a:lnTo>
                        <a:pt x="222" y="202"/>
                      </a:lnTo>
                      <a:lnTo>
                        <a:pt x="225" y="205"/>
                      </a:lnTo>
                      <a:lnTo>
                        <a:pt x="225" y="209"/>
                      </a:lnTo>
                      <a:lnTo>
                        <a:pt x="229" y="211"/>
                      </a:lnTo>
                      <a:lnTo>
                        <a:pt x="227" y="217"/>
                      </a:lnTo>
                      <a:lnTo>
                        <a:pt x="228" y="224"/>
                      </a:lnTo>
                      <a:lnTo>
                        <a:pt x="231" y="230"/>
                      </a:lnTo>
                      <a:lnTo>
                        <a:pt x="237" y="238"/>
                      </a:lnTo>
                      <a:lnTo>
                        <a:pt x="240" y="238"/>
                      </a:lnTo>
                      <a:lnTo>
                        <a:pt x="244" y="240"/>
                      </a:lnTo>
                      <a:lnTo>
                        <a:pt x="249" y="233"/>
                      </a:lnTo>
                      <a:lnTo>
                        <a:pt x="253" y="230"/>
                      </a:lnTo>
                      <a:lnTo>
                        <a:pt x="258" y="235"/>
                      </a:lnTo>
                      <a:lnTo>
                        <a:pt x="261" y="236"/>
                      </a:lnTo>
                      <a:lnTo>
                        <a:pt x="267" y="234"/>
                      </a:lnTo>
                      <a:lnTo>
                        <a:pt x="267" y="229"/>
                      </a:lnTo>
                      <a:lnTo>
                        <a:pt x="262" y="223"/>
                      </a:lnTo>
                      <a:lnTo>
                        <a:pt x="258" y="219"/>
                      </a:lnTo>
                      <a:lnTo>
                        <a:pt x="257" y="215"/>
                      </a:lnTo>
                      <a:lnTo>
                        <a:pt x="252" y="211"/>
                      </a:lnTo>
                      <a:lnTo>
                        <a:pt x="248" y="210"/>
                      </a:lnTo>
                      <a:lnTo>
                        <a:pt x="246" y="204"/>
                      </a:lnTo>
                      <a:lnTo>
                        <a:pt x="244" y="200"/>
                      </a:lnTo>
                      <a:lnTo>
                        <a:pt x="241" y="197"/>
                      </a:lnTo>
                      <a:lnTo>
                        <a:pt x="240" y="189"/>
                      </a:lnTo>
                      <a:lnTo>
                        <a:pt x="241" y="188"/>
                      </a:lnTo>
                      <a:lnTo>
                        <a:pt x="246" y="193"/>
                      </a:lnTo>
                      <a:lnTo>
                        <a:pt x="246" y="197"/>
                      </a:lnTo>
                      <a:lnTo>
                        <a:pt x="250" y="201"/>
                      </a:lnTo>
                      <a:lnTo>
                        <a:pt x="254" y="205"/>
                      </a:lnTo>
                      <a:lnTo>
                        <a:pt x="256" y="208"/>
                      </a:lnTo>
                      <a:lnTo>
                        <a:pt x="259" y="204"/>
                      </a:lnTo>
                      <a:lnTo>
                        <a:pt x="261" y="202"/>
                      </a:lnTo>
                      <a:lnTo>
                        <a:pt x="265" y="201"/>
                      </a:lnTo>
                      <a:lnTo>
                        <a:pt x="266" y="198"/>
                      </a:lnTo>
                      <a:lnTo>
                        <a:pt x="269" y="197"/>
                      </a:lnTo>
                      <a:lnTo>
                        <a:pt x="267" y="201"/>
                      </a:lnTo>
                      <a:lnTo>
                        <a:pt x="268" y="205"/>
                      </a:lnTo>
                      <a:lnTo>
                        <a:pt x="272" y="208"/>
                      </a:lnTo>
                      <a:lnTo>
                        <a:pt x="272" y="211"/>
                      </a:lnTo>
                      <a:lnTo>
                        <a:pt x="268" y="215"/>
                      </a:lnTo>
                      <a:lnTo>
                        <a:pt x="270" y="219"/>
                      </a:lnTo>
                      <a:lnTo>
                        <a:pt x="275" y="222"/>
                      </a:lnTo>
                      <a:lnTo>
                        <a:pt x="278" y="225"/>
                      </a:lnTo>
                      <a:lnTo>
                        <a:pt x="275" y="230"/>
                      </a:lnTo>
                      <a:lnTo>
                        <a:pt x="272" y="234"/>
                      </a:lnTo>
                      <a:lnTo>
                        <a:pt x="272" y="237"/>
                      </a:lnTo>
                      <a:lnTo>
                        <a:pt x="270" y="241"/>
                      </a:lnTo>
                      <a:lnTo>
                        <a:pt x="268" y="245"/>
                      </a:lnTo>
                      <a:lnTo>
                        <a:pt x="266" y="248"/>
                      </a:lnTo>
                      <a:lnTo>
                        <a:pt x="263" y="245"/>
                      </a:lnTo>
                      <a:lnTo>
                        <a:pt x="258" y="245"/>
                      </a:lnTo>
                      <a:lnTo>
                        <a:pt x="255" y="242"/>
                      </a:lnTo>
                      <a:lnTo>
                        <a:pt x="254" y="238"/>
                      </a:lnTo>
                      <a:lnTo>
                        <a:pt x="251" y="237"/>
                      </a:lnTo>
                      <a:lnTo>
                        <a:pt x="250" y="240"/>
                      </a:lnTo>
                      <a:lnTo>
                        <a:pt x="252" y="242"/>
                      </a:lnTo>
                      <a:lnTo>
                        <a:pt x="252" y="246"/>
                      </a:lnTo>
                      <a:lnTo>
                        <a:pt x="252" y="249"/>
                      </a:lnTo>
                      <a:lnTo>
                        <a:pt x="255" y="248"/>
                      </a:lnTo>
                      <a:lnTo>
                        <a:pt x="258" y="250"/>
                      </a:lnTo>
                      <a:lnTo>
                        <a:pt x="258" y="254"/>
                      </a:lnTo>
                      <a:lnTo>
                        <a:pt x="255" y="259"/>
                      </a:lnTo>
                      <a:lnTo>
                        <a:pt x="256" y="265"/>
                      </a:lnTo>
                      <a:lnTo>
                        <a:pt x="254" y="273"/>
                      </a:lnTo>
                      <a:lnTo>
                        <a:pt x="255" y="280"/>
                      </a:lnTo>
                      <a:lnTo>
                        <a:pt x="254" y="284"/>
                      </a:lnTo>
                      <a:lnTo>
                        <a:pt x="250" y="288"/>
                      </a:lnTo>
                      <a:lnTo>
                        <a:pt x="250" y="292"/>
                      </a:lnTo>
                      <a:lnTo>
                        <a:pt x="252" y="297"/>
                      </a:lnTo>
                      <a:lnTo>
                        <a:pt x="257" y="298"/>
                      </a:lnTo>
                      <a:lnTo>
                        <a:pt x="262" y="301"/>
                      </a:lnTo>
                      <a:lnTo>
                        <a:pt x="264" y="305"/>
                      </a:lnTo>
                      <a:lnTo>
                        <a:pt x="262" y="307"/>
                      </a:lnTo>
                      <a:lnTo>
                        <a:pt x="256" y="313"/>
                      </a:lnTo>
                      <a:lnTo>
                        <a:pt x="250" y="316"/>
                      </a:lnTo>
                      <a:lnTo>
                        <a:pt x="245" y="324"/>
                      </a:lnTo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8123400" y="469800"/>
                  <a:ext cx="277560" cy="306360"/>
                  <a:chOff x="8123400" y="469800"/>
                  <a:chExt cx="277560" cy="3063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8175600" y="70344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" y="0"/>
                        </a:moveTo>
                        <a:lnTo>
                          <a:pt x="0" y="6"/>
                        </a:lnTo>
                        <a:lnTo>
                          <a:pt x="1" y="12"/>
                        </a:lnTo>
                        <a:lnTo>
                          <a:pt x="6" y="12"/>
                        </a:lnTo>
                        <a:lnTo>
                          <a:pt x="16" y="16"/>
                        </a:lnTo>
                        <a:lnTo>
                          <a:pt x="12" y="9"/>
                        </a:lnTo>
                        <a:lnTo>
                          <a:pt x="14" y="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177040" y="676440"/>
                    <a:ext cx="511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7">
                        <a:moveTo>
                          <a:pt x="2" y="0"/>
                        </a:moveTo>
                        <a:lnTo>
                          <a:pt x="11" y="5"/>
                        </a:lnTo>
                        <a:lnTo>
                          <a:pt x="15" y="5"/>
                        </a:lnTo>
                        <a:lnTo>
                          <a:pt x="15" y="10"/>
                        </a:lnTo>
                        <a:lnTo>
                          <a:pt x="18" y="14"/>
                        </a:lnTo>
                        <a:lnTo>
                          <a:pt x="21" y="17"/>
                        </a:lnTo>
                        <a:lnTo>
                          <a:pt x="26" y="16"/>
                        </a:lnTo>
                        <a:lnTo>
                          <a:pt x="30" y="20"/>
                        </a:lnTo>
                        <a:lnTo>
                          <a:pt x="29" y="24"/>
                        </a:lnTo>
                        <a:lnTo>
                          <a:pt x="31" y="27"/>
                        </a:lnTo>
                        <a:lnTo>
                          <a:pt x="26" y="32"/>
                        </a:lnTo>
                        <a:lnTo>
                          <a:pt x="21" y="36"/>
                        </a:lnTo>
                        <a:lnTo>
                          <a:pt x="18" y="36"/>
                        </a:lnTo>
                        <a:lnTo>
                          <a:pt x="18" y="33"/>
                        </a:lnTo>
                        <a:lnTo>
                          <a:pt x="19" y="30"/>
                        </a:lnTo>
                        <a:lnTo>
                          <a:pt x="18" y="26"/>
                        </a:lnTo>
                        <a:lnTo>
                          <a:pt x="17" y="19"/>
                        </a:lnTo>
                        <a:lnTo>
                          <a:pt x="12" y="16"/>
                        </a:lnTo>
                        <a:lnTo>
                          <a:pt x="7" y="15"/>
                        </a:lnTo>
                        <a:lnTo>
                          <a:pt x="6" y="13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298000" y="7462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2" y="14"/>
                        </a:lnTo>
                        <a:lnTo>
                          <a:pt x="16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332920" y="7491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4"/>
                        </a:moveTo>
                        <a:lnTo>
                          <a:pt x="8" y="0"/>
                        </a:lnTo>
                        <a:lnTo>
                          <a:pt x="16" y="4"/>
                        </a:lnTo>
                        <a:lnTo>
                          <a:pt x="10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8373960" y="725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0"/>
                        </a:moveTo>
                        <a:lnTo>
                          <a:pt x="16" y="16"/>
                        </a:lnTo>
                        <a:lnTo>
                          <a:pt x="7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123400" y="469800"/>
                    <a:ext cx="601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7">
                        <a:moveTo>
                          <a:pt x="0" y="10"/>
                        </a:moveTo>
                        <a:lnTo>
                          <a:pt x="17" y="11"/>
                        </a:lnTo>
                        <a:lnTo>
                          <a:pt x="22" y="15"/>
                        </a:lnTo>
                        <a:lnTo>
                          <a:pt x="28" y="16"/>
                        </a:lnTo>
                        <a:lnTo>
                          <a:pt x="37" y="12"/>
                        </a:lnTo>
                        <a:lnTo>
                          <a:pt x="32" y="8"/>
                        </a:lnTo>
                        <a:lnTo>
                          <a:pt x="24" y="8"/>
                        </a:lnTo>
                        <a:lnTo>
                          <a:pt x="21" y="0"/>
                        </a:lnTo>
                        <a:lnTo>
                          <a:pt x="15" y="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>
                  <a:off x="8383680" y="536400"/>
                  <a:ext cx="93600" cy="65160"/>
                </a:xfrm>
                <a:custGeom>
                  <a:avLst/>
                  <a:gdLst/>
                  <a:ahLst/>
                  <a:rect l="l" t="t" r="r" b="b"/>
                  <a:pathLst>
                    <a:path w="59" h="41">
                      <a:moveTo>
                        <a:pt x="56" y="25"/>
                      </a:moveTo>
                      <a:lnTo>
                        <a:pt x="58" y="36"/>
                      </a:lnTo>
                      <a:lnTo>
                        <a:pt x="52" y="39"/>
                      </a:lnTo>
                      <a:lnTo>
                        <a:pt x="44" y="40"/>
                      </a:lnTo>
                      <a:lnTo>
                        <a:pt x="38" y="36"/>
                      </a:lnTo>
                      <a:lnTo>
                        <a:pt x="34" y="31"/>
                      </a:lnTo>
                      <a:lnTo>
                        <a:pt x="32" y="28"/>
                      </a:lnTo>
                      <a:lnTo>
                        <a:pt x="24" y="29"/>
                      </a:lnTo>
                      <a:lnTo>
                        <a:pt x="16" y="30"/>
                      </a:lnTo>
                      <a:lnTo>
                        <a:pt x="11" y="28"/>
                      </a:lnTo>
                      <a:lnTo>
                        <a:pt x="8" y="23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9" y="13"/>
                      </a:lnTo>
                      <a:lnTo>
                        <a:pt x="21" y="14"/>
                      </a:lnTo>
                      <a:lnTo>
                        <a:pt x="25" y="12"/>
                      </a:lnTo>
                      <a:lnTo>
                        <a:pt x="28" y="12"/>
                      </a:lnTo>
                      <a:lnTo>
                        <a:pt x="30" y="9"/>
                      </a:lnTo>
                      <a:lnTo>
                        <a:pt x="33" y="10"/>
                      </a:lnTo>
                      <a:lnTo>
                        <a:pt x="36" y="14"/>
                      </a:lnTo>
                      <a:lnTo>
                        <a:pt x="35" y="17"/>
                      </a:lnTo>
                      <a:lnTo>
                        <a:pt x="41" y="17"/>
                      </a:lnTo>
                      <a:lnTo>
                        <a:pt x="47" y="15"/>
                      </a:lnTo>
                      <a:lnTo>
                        <a:pt x="50" y="18"/>
                      </a:lnTo>
                      <a:lnTo>
                        <a:pt x="56" y="25"/>
                      </a:lnTo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929040" y="352440"/>
              <a:ext cx="1289160" cy="1125360"/>
              <a:chOff x="3929040" y="352440"/>
              <a:chExt cx="1289160" cy="11253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4179960" y="955800"/>
                <a:ext cx="819000" cy="345960"/>
                <a:chOff x="4179960" y="955800"/>
                <a:chExt cx="819000" cy="34596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179960" y="955800"/>
                  <a:ext cx="819000" cy="345960"/>
                  <a:chOff x="4179960" y="955800"/>
                  <a:chExt cx="819000" cy="34596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4179960" y="955800"/>
                    <a:ext cx="819000" cy="345960"/>
                    <a:chOff x="4179960" y="955800"/>
                    <a:chExt cx="819000" cy="345960"/>
                  </a:xfrm>
                </p:grpSpPr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4179960" y="955800"/>
                      <a:ext cx="819000" cy="345960"/>
                      <a:chOff x="4179960" y="955800"/>
                      <a:chExt cx="819000" cy="345960"/>
                    </a:xfrm>
                  </p:grpSpPr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4179960" y="955800"/>
                        <a:ext cx="819000" cy="345960"/>
                        <a:chOff x="4179960" y="955800"/>
                        <a:chExt cx="819000" cy="345960"/>
                      </a:xfrm>
                    </p:grpSpPr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4183200" y="1044720"/>
                          <a:ext cx="799920" cy="2570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4179960" y="955800"/>
                          <a:ext cx="81900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6" h="53">
                              <a:moveTo>
                                <a:pt x="0" y="52"/>
                              </a:moveTo>
                              <a:lnTo>
                                <a:pt x="515" y="52"/>
                              </a:lnTo>
                              <a:lnTo>
                                <a:pt x="466" y="0"/>
                              </a:lnTo>
                              <a:lnTo>
                                <a:pt x="54" y="0"/>
                              </a:lnTo>
                              <a:lnTo>
                                <a:pt x="0" y="52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080" bIns="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194000" y="1023840"/>
                        <a:ext cx="79236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5" name=""/>
                    <p:cNvGrpSpPr/>
                    <p:nvPr/>
                  </p:nvGrpSpPr>
                  <p:grpSpPr>
                    <a:xfrm>
                      <a:off x="4208400" y="1243080"/>
                      <a:ext cx="789120" cy="54000"/>
                      <a:chOff x="4208400" y="1243080"/>
                      <a:chExt cx="789120" cy="54000"/>
                    </a:xfrm>
                  </p:grpSpPr>
                  <p:grpSp>
                    <p:nvGrpSpPr>
                      <p:cNvPr id="186" name=""/>
                      <p:cNvGrpSpPr/>
                      <p:nvPr/>
                    </p:nvGrpSpPr>
                    <p:grpSpPr>
                      <a:xfrm>
                        <a:off x="4208400" y="1243080"/>
                        <a:ext cx="403200" cy="54000"/>
                        <a:chOff x="4208400" y="1243080"/>
                        <a:chExt cx="403200" cy="54000"/>
                      </a:xfrm>
                    </p:grpSpPr>
                    <p:grpSp>
                      <p:nvGrpSpPr>
                        <p:cNvPr id="187" name=""/>
                        <p:cNvGrpSpPr/>
                        <p:nvPr/>
                      </p:nvGrpSpPr>
                      <p:grpSpPr>
                        <a:xfrm>
                          <a:off x="4208400" y="1244520"/>
                          <a:ext cx="208080" cy="52560"/>
                          <a:chOff x="4208400" y="1244520"/>
                          <a:chExt cx="208080" cy="52560"/>
                        </a:xfrm>
                      </p:grpSpPr>
                      <p:grpSp>
                        <p:nvGrpSpPr>
                          <p:cNvPr id="188" name=""/>
                          <p:cNvGrpSpPr/>
                          <p:nvPr/>
                        </p:nvGrpSpPr>
                        <p:grpSpPr>
                          <a:xfrm>
                            <a:off x="4208400" y="1244520"/>
                            <a:ext cx="111240" cy="52560"/>
                            <a:chOff x="4208400" y="1244520"/>
                            <a:chExt cx="111240" cy="52560"/>
                          </a:xfrm>
                        </p:grpSpPr>
                        <p:grpSp>
                          <p:nvGrpSpPr>
                            <p:cNvPr id="189" name=""/>
                            <p:cNvGrpSpPr/>
                            <p:nvPr/>
                          </p:nvGrpSpPr>
                          <p:grpSpPr>
                            <a:xfrm>
                              <a:off x="4208400" y="1244520"/>
                              <a:ext cx="61920" cy="52560"/>
                              <a:chOff x="4208400" y="1244520"/>
                              <a:chExt cx="61920" cy="52560"/>
                            </a:xfrm>
                          </p:grpSpPr>
                          <p:grpSp>
                            <p:nvGrpSpPr>
                              <p:cNvPr id="190" name=""/>
                              <p:cNvGrpSpPr/>
                              <p:nvPr/>
                            </p:nvGrpSpPr>
                            <p:grpSpPr>
                              <a:xfrm>
                                <a:off x="4208400" y="1244520"/>
                                <a:ext cx="39600" cy="52560"/>
                                <a:chOff x="4208400" y="1244520"/>
                                <a:chExt cx="39600" cy="52560"/>
                              </a:xfrm>
                            </p:grpSpPr>
                            <p:sp>
                              <p:nvSpPr>
                                <p:cNvPr id="191" name=""/>
                                <p:cNvSpPr/>
                                <p:nvPr/>
                              </p:nvSpPr>
                              <p:spPr>
                                <a:xfrm>
                                  <a:off x="420840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2" name=""/>
                                <p:cNvSpPr/>
                                <p:nvPr/>
                              </p:nvSpPr>
                              <p:spPr>
                                <a:xfrm>
                                  <a:off x="422100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3" name=""/>
                              <p:cNvGrpSpPr/>
                              <p:nvPr/>
                            </p:nvGrpSpPr>
                            <p:grpSpPr>
                              <a:xfrm>
                                <a:off x="4232160" y="1244520"/>
                                <a:ext cx="38160" cy="52560"/>
                                <a:chOff x="4232160" y="1244520"/>
                                <a:chExt cx="38160" cy="52560"/>
                              </a:xfrm>
                            </p:grpSpPr>
                            <p:sp>
                              <p:nvSpPr>
                                <p:cNvPr id="194" name=""/>
                                <p:cNvSpPr/>
                                <p:nvPr/>
                              </p:nvSpPr>
                              <p:spPr>
                                <a:xfrm>
                                  <a:off x="423216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5" name=""/>
                                <p:cNvSpPr/>
                                <p:nvPr/>
                              </p:nvSpPr>
                              <p:spPr>
                                <a:xfrm>
                                  <a:off x="424332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196" name=""/>
                            <p:cNvGrpSpPr/>
                            <p:nvPr/>
                          </p:nvGrpSpPr>
                          <p:grpSpPr>
                            <a:xfrm>
                              <a:off x="4255920" y="1244520"/>
                              <a:ext cx="63720" cy="52560"/>
                              <a:chOff x="4255920" y="1244520"/>
                              <a:chExt cx="63720" cy="52560"/>
                            </a:xfrm>
                          </p:grpSpPr>
                          <p:grpSp>
                            <p:nvGrpSpPr>
                              <p:cNvPr id="197" name=""/>
                              <p:cNvGrpSpPr/>
                              <p:nvPr/>
                            </p:nvGrpSpPr>
                            <p:grpSpPr>
                              <a:xfrm>
                                <a:off x="4255920" y="1244520"/>
                                <a:ext cx="39960" cy="52560"/>
                                <a:chOff x="4255920" y="1244520"/>
                                <a:chExt cx="39960" cy="52560"/>
                              </a:xfrm>
                            </p:grpSpPr>
                            <p:sp>
                              <p:nvSpPr>
                                <p:cNvPr id="198" name=""/>
                                <p:cNvSpPr/>
                                <p:nvPr/>
                              </p:nvSpPr>
                              <p:spPr>
                                <a:xfrm>
                                  <a:off x="425592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9" name=""/>
                                <p:cNvSpPr/>
                                <p:nvPr/>
                              </p:nvSpPr>
                              <p:spPr>
                                <a:xfrm>
                                  <a:off x="426888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00" name=""/>
                              <p:cNvGrpSpPr/>
                              <p:nvPr/>
                            </p:nvGrpSpPr>
                            <p:grpSpPr>
                              <a:xfrm>
                                <a:off x="4280040" y="1244520"/>
                                <a:ext cx="39600" cy="52560"/>
                                <a:chOff x="4280040" y="1244520"/>
                                <a:chExt cx="39600" cy="52560"/>
                              </a:xfrm>
                            </p:grpSpPr>
                            <p:sp>
                              <p:nvSpPr>
                                <p:cNvPr id="201" name=""/>
                                <p:cNvSpPr/>
                                <p:nvPr/>
                              </p:nvSpPr>
                              <p:spPr>
                                <a:xfrm>
                                  <a:off x="428004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2" name=""/>
                                <p:cNvSpPr/>
                                <p:nvPr/>
                              </p:nvSpPr>
                              <p:spPr>
                                <a:xfrm>
                                  <a:off x="429264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203" name=""/>
                          <p:cNvGrpSpPr/>
                          <p:nvPr/>
                        </p:nvGrpSpPr>
                        <p:grpSpPr>
                          <a:xfrm>
                            <a:off x="4305240" y="1244520"/>
                            <a:ext cx="111240" cy="52560"/>
                            <a:chOff x="4305240" y="1244520"/>
                            <a:chExt cx="111240" cy="52560"/>
                          </a:xfrm>
                        </p:grpSpPr>
                        <p:grpSp>
                          <p:nvGrpSpPr>
                            <p:cNvPr id="204" name=""/>
                            <p:cNvGrpSpPr/>
                            <p:nvPr/>
                          </p:nvGrpSpPr>
                          <p:grpSpPr>
                            <a:xfrm>
                              <a:off x="4305240" y="1244520"/>
                              <a:ext cx="63720" cy="52560"/>
                              <a:chOff x="4305240" y="1244520"/>
                              <a:chExt cx="63720" cy="52560"/>
                            </a:xfrm>
                          </p:grpSpPr>
                          <p:grpSp>
                            <p:nvGrpSpPr>
                              <p:cNvPr id="205" name=""/>
                              <p:cNvGrpSpPr/>
                              <p:nvPr/>
                            </p:nvGrpSpPr>
                            <p:grpSpPr>
                              <a:xfrm>
                                <a:off x="4305240" y="1244520"/>
                                <a:ext cx="38160" cy="52560"/>
                                <a:chOff x="4305240" y="1244520"/>
                                <a:chExt cx="38160" cy="52560"/>
                              </a:xfrm>
                            </p:grpSpPr>
                            <p:sp>
                              <p:nvSpPr>
                                <p:cNvPr id="206" name=""/>
                                <p:cNvSpPr/>
                                <p:nvPr/>
                              </p:nvSpPr>
                              <p:spPr>
                                <a:xfrm>
                                  <a:off x="430524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7" name=""/>
                                <p:cNvSpPr/>
                                <p:nvPr/>
                              </p:nvSpPr>
                              <p:spPr>
                                <a:xfrm>
                                  <a:off x="431640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08" name=""/>
                              <p:cNvGrpSpPr/>
                              <p:nvPr/>
                            </p:nvGrpSpPr>
                            <p:grpSpPr>
                              <a:xfrm>
                                <a:off x="4329000" y="1244520"/>
                                <a:ext cx="39960" cy="52560"/>
                                <a:chOff x="4329000" y="1244520"/>
                                <a:chExt cx="39960" cy="52560"/>
                              </a:xfrm>
                            </p:grpSpPr>
                            <p:sp>
                              <p:nvSpPr>
                                <p:cNvPr id="209" name=""/>
                                <p:cNvSpPr/>
                                <p:nvPr/>
                              </p:nvSpPr>
                              <p:spPr>
                                <a:xfrm>
                                  <a:off x="432900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0" name=""/>
                                <p:cNvSpPr/>
                                <p:nvPr/>
                              </p:nvSpPr>
                              <p:spPr>
                                <a:xfrm>
                                  <a:off x="434196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11" name=""/>
                            <p:cNvGrpSpPr/>
                            <p:nvPr/>
                          </p:nvGrpSpPr>
                          <p:grpSpPr>
                            <a:xfrm>
                              <a:off x="4352760" y="1244520"/>
                              <a:ext cx="63720" cy="52560"/>
                              <a:chOff x="4352760" y="1244520"/>
                              <a:chExt cx="63720" cy="52560"/>
                            </a:xfrm>
                          </p:grpSpPr>
                          <p:grpSp>
                            <p:nvGrpSpPr>
                              <p:cNvPr id="212" name=""/>
                              <p:cNvGrpSpPr/>
                              <p:nvPr/>
                            </p:nvGrpSpPr>
                            <p:grpSpPr>
                              <a:xfrm>
                                <a:off x="4352760" y="1244520"/>
                                <a:ext cx="39960" cy="52560"/>
                                <a:chOff x="4352760" y="1244520"/>
                                <a:chExt cx="39960" cy="52560"/>
                              </a:xfrm>
                            </p:grpSpPr>
                            <p:sp>
                              <p:nvSpPr>
                                <p:cNvPr id="213" name=""/>
                                <p:cNvSpPr/>
                                <p:nvPr/>
                              </p:nvSpPr>
                              <p:spPr>
                                <a:xfrm>
                                  <a:off x="435276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4" name=""/>
                                <p:cNvSpPr/>
                                <p:nvPr/>
                              </p:nvSpPr>
                              <p:spPr>
                                <a:xfrm>
                                  <a:off x="436572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15" name=""/>
                              <p:cNvGrpSpPr/>
                              <p:nvPr/>
                            </p:nvGrpSpPr>
                            <p:grpSpPr>
                              <a:xfrm>
                                <a:off x="4378320" y="1244520"/>
                                <a:ext cx="38160" cy="52560"/>
                                <a:chOff x="4378320" y="1244520"/>
                                <a:chExt cx="38160" cy="52560"/>
                              </a:xfrm>
                            </p:grpSpPr>
                            <p:sp>
                              <p:nvSpPr>
                                <p:cNvPr id="216" name=""/>
                                <p:cNvSpPr/>
                                <p:nvPr/>
                              </p:nvSpPr>
                              <p:spPr>
                                <a:xfrm>
                                  <a:off x="437832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" name=""/>
                                <p:cNvSpPr/>
                                <p:nvPr/>
                              </p:nvSpPr>
                              <p:spPr>
                                <a:xfrm>
                                  <a:off x="438948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218" name=""/>
                        <p:cNvGrpSpPr/>
                        <p:nvPr/>
                      </p:nvGrpSpPr>
                      <p:grpSpPr>
                        <a:xfrm>
                          <a:off x="4402080" y="1243080"/>
                          <a:ext cx="209520" cy="54000"/>
                          <a:chOff x="4402080" y="1243080"/>
                          <a:chExt cx="209520" cy="54000"/>
                        </a:xfrm>
                      </p:grpSpPr>
                      <p:grpSp>
                        <p:nvGrpSpPr>
                          <p:cNvPr id="219" name=""/>
                          <p:cNvGrpSpPr/>
                          <p:nvPr/>
                        </p:nvGrpSpPr>
                        <p:grpSpPr>
                          <a:xfrm>
                            <a:off x="4402080" y="1243080"/>
                            <a:ext cx="111240" cy="54000"/>
                            <a:chOff x="4402080" y="1243080"/>
                            <a:chExt cx="111240" cy="54000"/>
                          </a:xfrm>
                        </p:grpSpPr>
                        <p:grpSp>
                          <p:nvGrpSpPr>
                            <p:cNvPr id="220" name=""/>
                            <p:cNvGrpSpPr/>
                            <p:nvPr/>
                          </p:nvGrpSpPr>
                          <p:grpSpPr>
                            <a:xfrm>
                              <a:off x="4402080" y="1243080"/>
                              <a:ext cx="63720" cy="54000"/>
                              <a:chOff x="4402080" y="1243080"/>
                              <a:chExt cx="63720" cy="54000"/>
                            </a:xfrm>
                          </p:grpSpPr>
                          <p:grpSp>
                            <p:nvGrpSpPr>
                              <p:cNvPr id="221" name=""/>
                              <p:cNvGrpSpPr/>
                              <p:nvPr/>
                            </p:nvGrpSpPr>
                            <p:grpSpPr>
                              <a:xfrm>
                                <a:off x="4402080" y="1243080"/>
                                <a:ext cx="38160" cy="54000"/>
                                <a:chOff x="440208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22" name=""/>
                                <p:cNvSpPr/>
                                <p:nvPr/>
                              </p:nvSpPr>
                              <p:spPr>
                                <a:xfrm>
                                  <a:off x="44020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" name=""/>
                                <p:cNvSpPr/>
                                <p:nvPr/>
                              </p:nvSpPr>
                              <p:spPr>
                                <a:xfrm>
                                  <a:off x="44132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4" name=""/>
                              <p:cNvGrpSpPr/>
                              <p:nvPr/>
                            </p:nvGrpSpPr>
                            <p:grpSpPr>
                              <a:xfrm>
                                <a:off x="4425840" y="1243080"/>
                                <a:ext cx="39960" cy="54000"/>
                                <a:chOff x="442584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>
                                  <a:off x="44258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"/>
                                <p:cNvSpPr/>
                                <p:nvPr/>
                              </p:nvSpPr>
                              <p:spPr>
                                <a:xfrm>
                                  <a:off x="44388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27" name=""/>
                            <p:cNvGrpSpPr/>
                            <p:nvPr/>
                          </p:nvGrpSpPr>
                          <p:grpSpPr>
                            <a:xfrm>
                              <a:off x="4449600" y="1243080"/>
                              <a:ext cx="63720" cy="54000"/>
                              <a:chOff x="4449600" y="1243080"/>
                              <a:chExt cx="63720" cy="54000"/>
                            </a:xfrm>
                          </p:grpSpPr>
                          <p:grpSp>
                            <p:nvGrpSpPr>
                              <p:cNvPr id="228" name=""/>
                              <p:cNvGrpSpPr/>
                              <p:nvPr/>
                            </p:nvGrpSpPr>
                            <p:grpSpPr>
                              <a:xfrm>
                                <a:off x="4449600" y="1243080"/>
                                <a:ext cx="39960" cy="54000"/>
                                <a:chOff x="444960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>
                                  <a:off x="44496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" name=""/>
                                <p:cNvSpPr/>
                                <p:nvPr/>
                              </p:nvSpPr>
                              <p:spPr>
                                <a:xfrm>
                                  <a:off x="44625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1" name=""/>
                              <p:cNvGrpSpPr/>
                              <p:nvPr/>
                            </p:nvGrpSpPr>
                            <p:grpSpPr>
                              <a:xfrm>
                                <a:off x="4475160" y="1243080"/>
                                <a:ext cx="38160" cy="54000"/>
                                <a:chOff x="447516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32" name=""/>
                                <p:cNvSpPr/>
                                <p:nvPr/>
                              </p:nvSpPr>
                              <p:spPr>
                                <a:xfrm>
                                  <a:off x="44751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"/>
                                <p:cNvSpPr/>
                                <p:nvPr/>
                              </p:nvSpPr>
                              <p:spPr>
                                <a:xfrm>
                                  <a:off x="44863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234" name=""/>
                          <p:cNvGrpSpPr/>
                          <p:nvPr/>
                        </p:nvGrpSpPr>
                        <p:grpSpPr>
                          <a:xfrm>
                            <a:off x="4498920" y="1243080"/>
                            <a:ext cx="112680" cy="54000"/>
                            <a:chOff x="4498920" y="1243080"/>
                            <a:chExt cx="112680" cy="54000"/>
                          </a:xfrm>
                        </p:grpSpPr>
                        <p:grpSp>
                          <p:nvGrpSpPr>
                            <p:cNvPr id="235" name=""/>
                            <p:cNvGrpSpPr/>
                            <p:nvPr/>
                          </p:nvGrpSpPr>
                          <p:grpSpPr>
                            <a:xfrm>
                              <a:off x="4498920" y="1243080"/>
                              <a:ext cx="63720" cy="54000"/>
                              <a:chOff x="4498920" y="1243080"/>
                              <a:chExt cx="63720" cy="54000"/>
                            </a:xfrm>
                          </p:grpSpPr>
                          <p:grpSp>
                            <p:nvGrpSpPr>
                              <p:cNvPr id="236" name=""/>
                              <p:cNvGrpSpPr/>
                              <p:nvPr/>
                            </p:nvGrpSpPr>
                            <p:grpSpPr>
                              <a:xfrm>
                                <a:off x="4498920" y="1243080"/>
                                <a:ext cx="39600" cy="54000"/>
                                <a:chOff x="4498920" y="1243080"/>
                                <a:chExt cx="39600" cy="54000"/>
                              </a:xfrm>
                            </p:grpSpPr>
                            <p:sp>
                              <p:nvSpPr>
                                <p:cNvPr id="237" name=""/>
                                <p:cNvSpPr/>
                                <p:nvPr/>
                              </p:nvSpPr>
                              <p:spPr>
                                <a:xfrm>
                                  <a:off x="44989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"/>
                                <p:cNvSpPr/>
                                <p:nvPr/>
                              </p:nvSpPr>
                              <p:spPr>
                                <a:xfrm>
                                  <a:off x="45115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9" name=""/>
                              <p:cNvGrpSpPr/>
                              <p:nvPr/>
                            </p:nvGrpSpPr>
                            <p:grpSpPr>
                              <a:xfrm>
                                <a:off x="4522680" y="1243080"/>
                                <a:ext cx="39960" cy="54000"/>
                                <a:chOff x="452268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40" name=""/>
                                <p:cNvSpPr/>
                                <p:nvPr/>
                              </p:nvSpPr>
                              <p:spPr>
                                <a:xfrm>
                                  <a:off x="45226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"/>
                                <p:cNvSpPr/>
                                <p:nvPr/>
                              </p:nvSpPr>
                              <p:spPr>
                                <a:xfrm>
                                  <a:off x="45356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42" name=""/>
                            <p:cNvGrpSpPr/>
                            <p:nvPr/>
                          </p:nvGrpSpPr>
                          <p:grpSpPr>
                            <a:xfrm>
                              <a:off x="4548240" y="1243080"/>
                              <a:ext cx="63360" cy="54000"/>
                              <a:chOff x="4548240" y="1243080"/>
                              <a:chExt cx="63360" cy="54000"/>
                            </a:xfrm>
                          </p:grpSpPr>
                          <p:grpSp>
                            <p:nvGrpSpPr>
                              <p:cNvPr id="243" name=""/>
                              <p:cNvGrpSpPr/>
                              <p:nvPr/>
                            </p:nvGrpSpPr>
                            <p:grpSpPr>
                              <a:xfrm>
                                <a:off x="4548240" y="1243080"/>
                                <a:ext cx="38160" cy="54000"/>
                                <a:chOff x="454824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44" name=""/>
                                <p:cNvSpPr/>
                                <p:nvPr/>
                              </p:nvSpPr>
                              <p:spPr>
                                <a:xfrm>
                                  <a:off x="45482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"/>
                                <p:cNvSpPr/>
                                <p:nvPr/>
                              </p:nvSpPr>
                              <p:spPr>
                                <a:xfrm>
                                  <a:off x="45594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46" name=""/>
                              <p:cNvGrpSpPr/>
                              <p:nvPr/>
                            </p:nvGrpSpPr>
                            <p:grpSpPr>
                              <a:xfrm>
                                <a:off x="4570560" y="1243080"/>
                                <a:ext cx="41040" cy="54000"/>
                                <a:chOff x="4570560" y="1243080"/>
                                <a:chExt cx="41040" cy="54000"/>
                              </a:xfrm>
                            </p:grpSpPr>
                            <p:sp>
                              <p:nvSpPr>
                                <p:cNvPr id="247" name=""/>
                                <p:cNvSpPr/>
                                <p:nvPr/>
                              </p:nvSpPr>
                              <p:spPr>
                                <a:xfrm>
                                  <a:off x="45705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"/>
                                <p:cNvSpPr/>
                                <p:nvPr/>
                              </p:nvSpPr>
                              <p:spPr>
                                <a:xfrm>
                                  <a:off x="45846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249" name=""/>
                      <p:cNvGrpSpPr/>
                      <p:nvPr/>
                    </p:nvGrpSpPr>
                    <p:grpSpPr>
                      <a:xfrm>
                        <a:off x="4595760" y="1243080"/>
                        <a:ext cx="401760" cy="54000"/>
                        <a:chOff x="4595760" y="1243080"/>
                        <a:chExt cx="401760" cy="54000"/>
                      </a:xfrm>
                    </p:grpSpPr>
                    <p:grpSp>
                      <p:nvGrpSpPr>
                        <p:cNvPr id="250" name=""/>
                        <p:cNvGrpSpPr/>
                        <p:nvPr/>
                      </p:nvGrpSpPr>
                      <p:grpSpPr>
                        <a:xfrm>
                          <a:off x="4595760" y="1243080"/>
                          <a:ext cx="208080" cy="54000"/>
                          <a:chOff x="4595760" y="1243080"/>
                          <a:chExt cx="208080" cy="54000"/>
                        </a:xfrm>
                      </p:grpSpPr>
                      <p:grpSp>
                        <p:nvGrpSpPr>
                          <p:cNvPr id="251" name=""/>
                          <p:cNvGrpSpPr/>
                          <p:nvPr/>
                        </p:nvGrpSpPr>
                        <p:grpSpPr>
                          <a:xfrm>
                            <a:off x="4595760" y="1243080"/>
                            <a:ext cx="111240" cy="54000"/>
                            <a:chOff x="4595760" y="1243080"/>
                            <a:chExt cx="111240" cy="54000"/>
                          </a:xfrm>
                        </p:grpSpPr>
                        <p:grpSp>
                          <p:nvGrpSpPr>
                            <p:cNvPr id="252" name=""/>
                            <p:cNvGrpSpPr/>
                            <p:nvPr/>
                          </p:nvGrpSpPr>
                          <p:grpSpPr>
                            <a:xfrm>
                              <a:off x="4595760" y="1243080"/>
                              <a:ext cx="63720" cy="54000"/>
                              <a:chOff x="4595760" y="1243080"/>
                              <a:chExt cx="63720" cy="54000"/>
                            </a:xfrm>
                          </p:grpSpPr>
                          <p:grpSp>
                            <p:nvGrpSpPr>
                              <p:cNvPr id="253" name=""/>
                              <p:cNvGrpSpPr/>
                              <p:nvPr/>
                            </p:nvGrpSpPr>
                            <p:grpSpPr>
                              <a:xfrm>
                                <a:off x="4595760" y="1243080"/>
                                <a:ext cx="38160" cy="54000"/>
                                <a:chOff x="459576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54" name=""/>
                                <p:cNvSpPr/>
                                <p:nvPr/>
                              </p:nvSpPr>
                              <p:spPr>
                                <a:xfrm>
                                  <a:off x="45957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5" name=""/>
                                <p:cNvSpPr/>
                                <p:nvPr/>
                              </p:nvSpPr>
                              <p:spPr>
                                <a:xfrm>
                                  <a:off x="46069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56" name=""/>
                              <p:cNvGrpSpPr/>
                              <p:nvPr/>
                            </p:nvGrpSpPr>
                            <p:grpSpPr>
                              <a:xfrm>
                                <a:off x="4619520" y="1243080"/>
                                <a:ext cx="39960" cy="54000"/>
                                <a:chOff x="461952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57" name=""/>
                                <p:cNvSpPr/>
                                <p:nvPr/>
                              </p:nvSpPr>
                              <p:spPr>
                                <a:xfrm>
                                  <a:off x="46195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8" name=""/>
                                <p:cNvSpPr/>
                                <p:nvPr/>
                              </p:nvSpPr>
                              <p:spPr>
                                <a:xfrm>
                                  <a:off x="46324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59" name=""/>
                            <p:cNvGrpSpPr/>
                            <p:nvPr/>
                          </p:nvGrpSpPr>
                          <p:grpSpPr>
                            <a:xfrm>
                              <a:off x="4643280" y="1243080"/>
                              <a:ext cx="63720" cy="54000"/>
                              <a:chOff x="4643280" y="1243080"/>
                              <a:chExt cx="63720" cy="54000"/>
                            </a:xfrm>
                          </p:grpSpPr>
                          <p:grpSp>
                            <p:nvGrpSpPr>
                              <p:cNvPr id="260" name=""/>
                              <p:cNvGrpSpPr/>
                              <p:nvPr/>
                            </p:nvGrpSpPr>
                            <p:grpSpPr>
                              <a:xfrm>
                                <a:off x="4643280" y="1243080"/>
                                <a:ext cx="39960" cy="54000"/>
                                <a:chOff x="464328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61" name=""/>
                                <p:cNvSpPr/>
                                <p:nvPr/>
                              </p:nvSpPr>
                              <p:spPr>
                                <a:xfrm>
                                  <a:off x="46432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2" name=""/>
                                <p:cNvSpPr/>
                                <p:nvPr/>
                              </p:nvSpPr>
                              <p:spPr>
                                <a:xfrm>
                                  <a:off x="46562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63" name=""/>
                              <p:cNvGrpSpPr/>
                              <p:nvPr/>
                            </p:nvGrpSpPr>
                            <p:grpSpPr>
                              <a:xfrm>
                                <a:off x="4668840" y="1243080"/>
                                <a:ext cx="38160" cy="54000"/>
                                <a:chOff x="466884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64" name=""/>
                                <p:cNvSpPr/>
                                <p:nvPr/>
                              </p:nvSpPr>
                              <p:spPr>
                                <a:xfrm>
                                  <a:off x="46688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"/>
                                <p:cNvSpPr/>
                                <p:nvPr/>
                              </p:nvSpPr>
                              <p:spPr>
                                <a:xfrm>
                                  <a:off x="46800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266" name=""/>
                          <p:cNvGrpSpPr/>
                          <p:nvPr/>
                        </p:nvGrpSpPr>
                        <p:grpSpPr>
                          <a:xfrm>
                            <a:off x="4692600" y="1243080"/>
                            <a:ext cx="111240" cy="54000"/>
                            <a:chOff x="4692600" y="1243080"/>
                            <a:chExt cx="111240" cy="54000"/>
                          </a:xfrm>
                        </p:grpSpPr>
                        <p:grpSp>
                          <p:nvGrpSpPr>
                            <p:cNvPr id="267" name=""/>
                            <p:cNvGrpSpPr/>
                            <p:nvPr/>
                          </p:nvGrpSpPr>
                          <p:grpSpPr>
                            <a:xfrm>
                              <a:off x="4692600" y="1243080"/>
                              <a:ext cx="63720" cy="54000"/>
                              <a:chOff x="4692600" y="1243080"/>
                              <a:chExt cx="63720" cy="54000"/>
                            </a:xfrm>
                          </p:grpSpPr>
                          <p:grpSp>
                            <p:nvGrpSpPr>
                              <p:cNvPr id="268" name=""/>
                              <p:cNvGrpSpPr/>
                              <p:nvPr/>
                            </p:nvGrpSpPr>
                            <p:grpSpPr>
                              <a:xfrm>
                                <a:off x="4692600" y="1243080"/>
                                <a:ext cx="38160" cy="54000"/>
                                <a:chOff x="469260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69" name=""/>
                                <p:cNvSpPr/>
                                <p:nvPr/>
                              </p:nvSpPr>
                              <p:spPr>
                                <a:xfrm>
                                  <a:off x="46926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"/>
                                <p:cNvSpPr/>
                                <p:nvPr/>
                              </p:nvSpPr>
                              <p:spPr>
                                <a:xfrm>
                                  <a:off x="47037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71" name=""/>
                              <p:cNvGrpSpPr/>
                              <p:nvPr/>
                            </p:nvGrpSpPr>
                            <p:grpSpPr>
                              <a:xfrm>
                                <a:off x="4716360" y="1243080"/>
                                <a:ext cx="39960" cy="54000"/>
                                <a:chOff x="471636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72" name=""/>
                                <p:cNvSpPr/>
                                <p:nvPr/>
                              </p:nvSpPr>
                              <p:spPr>
                                <a:xfrm>
                                  <a:off x="47163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"/>
                                <p:cNvSpPr/>
                                <p:nvPr/>
                              </p:nvSpPr>
                              <p:spPr>
                                <a:xfrm>
                                  <a:off x="47293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74" name=""/>
                            <p:cNvGrpSpPr/>
                            <p:nvPr/>
                          </p:nvGrpSpPr>
                          <p:grpSpPr>
                            <a:xfrm>
                              <a:off x="4741920" y="1243080"/>
                              <a:ext cx="61920" cy="54000"/>
                              <a:chOff x="4741920" y="1243080"/>
                              <a:chExt cx="61920" cy="54000"/>
                            </a:xfrm>
                          </p:grpSpPr>
                          <p:grpSp>
                            <p:nvGrpSpPr>
                              <p:cNvPr id="275" name=""/>
                              <p:cNvGrpSpPr/>
                              <p:nvPr/>
                            </p:nvGrpSpPr>
                            <p:grpSpPr>
                              <a:xfrm>
                                <a:off x="4741920" y="1243080"/>
                                <a:ext cx="38160" cy="54000"/>
                                <a:chOff x="474192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76" name=""/>
                                <p:cNvSpPr/>
                                <p:nvPr/>
                              </p:nvSpPr>
                              <p:spPr>
                                <a:xfrm>
                                  <a:off x="47419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7" name=""/>
                                <p:cNvSpPr/>
                                <p:nvPr/>
                              </p:nvSpPr>
                              <p:spPr>
                                <a:xfrm>
                                  <a:off x="47530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78" name=""/>
                              <p:cNvGrpSpPr/>
                              <p:nvPr/>
                            </p:nvGrpSpPr>
                            <p:grpSpPr>
                              <a:xfrm>
                                <a:off x="4765680" y="1243080"/>
                                <a:ext cx="38160" cy="54000"/>
                                <a:chOff x="476568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79" name=""/>
                                <p:cNvSpPr/>
                                <p:nvPr/>
                              </p:nvSpPr>
                              <p:spPr>
                                <a:xfrm>
                                  <a:off x="47656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" name=""/>
                                <p:cNvSpPr/>
                                <p:nvPr/>
                              </p:nvSpPr>
                              <p:spPr>
                                <a:xfrm>
                                  <a:off x="47768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281" name=""/>
                        <p:cNvGrpSpPr/>
                        <p:nvPr/>
                      </p:nvGrpSpPr>
                      <p:grpSpPr>
                        <a:xfrm>
                          <a:off x="4789440" y="1243080"/>
                          <a:ext cx="208080" cy="54000"/>
                          <a:chOff x="4789440" y="1243080"/>
                          <a:chExt cx="208080" cy="54000"/>
                        </a:xfrm>
                      </p:grpSpPr>
                      <p:grpSp>
                        <p:nvGrpSpPr>
                          <p:cNvPr id="282" name=""/>
                          <p:cNvGrpSpPr/>
                          <p:nvPr/>
                        </p:nvGrpSpPr>
                        <p:grpSpPr>
                          <a:xfrm>
                            <a:off x="4789440" y="1243080"/>
                            <a:ext cx="111240" cy="54000"/>
                            <a:chOff x="4789440" y="1243080"/>
                            <a:chExt cx="111240" cy="54000"/>
                          </a:xfrm>
                        </p:grpSpPr>
                        <p:grpSp>
                          <p:nvGrpSpPr>
                            <p:cNvPr id="283" name=""/>
                            <p:cNvGrpSpPr/>
                            <p:nvPr/>
                          </p:nvGrpSpPr>
                          <p:grpSpPr>
                            <a:xfrm>
                              <a:off x="4789440" y="1243080"/>
                              <a:ext cx="63720" cy="54000"/>
                              <a:chOff x="4789440" y="1243080"/>
                              <a:chExt cx="63720" cy="54000"/>
                            </a:xfrm>
                          </p:grpSpPr>
                          <p:grpSp>
                            <p:nvGrpSpPr>
                              <p:cNvPr id="284" name=""/>
                              <p:cNvGrpSpPr/>
                              <p:nvPr/>
                            </p:nvGrpSpPr>
                            <p:grpSpPr>
                              <a:xfrm>
                                <a:off x="4789440" y="1243080"/>
                                <a:ext cx="39600" cy="54000"/>
                                <a:chOff x="4789440" y="1243080"/>
                                <a:chExt cx="39600" cy="54000"/>
                              </a:xfrm>
                            </p:grpSpPr>
                            <p:sp>
                              <p:nvSpPr>
                                <p:cNvPr id="285" name=""/>
                                <p:cNvSpPr/>
                                <p:nvPr/>
                              </p:nvSpPr>
                              <p:spPr>
                                <a:xfrm>
                                  <a:off x="47894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6" name=""/>
                                <p:cNvSpPr/>
                                <p:nvPr/>
                              </p:nvSpPr>
                              <p:spPr>
                                <a:xfrm>
                                  <a:off x="48020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87" name=""/>
                              <p:cNvGrpSpPr/>
                              <p:nvPr/>
                            </p:nvGrpSpPr>
                            <p:grpSpPr>
                              <a:xfrm>
                                <a:off x="4813200" y="1243080"/>
                                <a:ext cx="39960" cy="54000"/>
                                <a:chOff x="481320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88" name=""/>
                                <p:cNvSpPr/>
                                <p:nvPr/>
                              </p:nvSpPr>
                              <p:spPr>
                                <a:xfrm>
                                  <a:off x="48132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9" name=""/>
                                <p:cNvSpPr/>
                                <p:nvPr/>
                              </p:nvSpPr>
                              <p:spPr>
                                <a:xfrm>
                                  <a:off x="48261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90" name=""/>
                            <p:cNvGrpSpPr/>
                            <p:nvPr/>
                          </p:nvGrpSpPr>
                          <p:grpSpPr>
                            <a:xfrm>
                              <a:off x="4838760" y="1243080"/>
                              <a:ext cx="61920" cy="54000"/>
                              <a:chOff x="4838760" y="1243080"/>
                              <a:chExt cx="61920" cy="54000"/>
                            </a:xfrm>
                          </p:grpSpPr>
                          <p:grpSp>
                            <p:nvGrpSpPr>
                              <p:cNvPr id="291" name=""/>
                              <p:cNvGrpSpPr/>
                              <p:nvPr/>
                            </p:nvGrpSpPr>
                            <p:grpSpPr>
                              <a:xfrm>
                                <a:off x="4838760" y="1243080"/>
                                <a:ext cx="38160" cy="54000"/>
                                <a:chOff x="483876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48387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3" name=""/>
                                <p:cNvSpPr/>
                                <p:nvPr/>
                              </p:nvSpPr>
                              <p:spPr>
                                <a:xfrm>
                                  <a:off x="48499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4" name=""/>
                              <p:cNvGrpSpPr/>
                              <p:nvPr/>
                            </p:nvGrpSpPr>
                            <p:grpSpPr>
                              <a:xfrm>
                                <a:off x="4862520" y="1243080"/>
                                <a:ext cx="38160" cy="54000"/>
                                <a:chOff x="486252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>
                                  <a:off x="48625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" name=""/>
                                <p:cNvSpPr/>
                                <p:nvPr/>
                              </p:nvSpPr>
                              <p:spPr>
                                <a:xfrm>
                                  <a:off x="48736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297" name=""/>
                          <p:cNvGrpSpPr/>
                          <p:nvPr/>
                        </p:nvGrpSpPr>
                        <p:grpSpPr>
                          <a:xfrm>
                            <a:off x="4886280" y="1243080"/>
                            <a:ext cx="111240" cy="54000"/>
                            <a:chOff x="4886280" y="1243080"/>
                            <a:chExt cx="111240" cy="54000"/>
                          </a:xfrm>
                        </p:grpSpPr>
                        <p:grpSp>
                          <p:nvGrpSpPr>
                            <p:cNvPr id="298" name=""/>
                            <p:cNvGrpSpPr/>
                            <p:nvPr/>
                          </p:nvGrpSpPr>
                          <p:grpSpPr>
                            <a:xfrm>
                              <a:off x="4886280" y="1243080"/>
                              <a:ext cx="63720" cy="54000"/>
                              <a:chOff x="4886280" y="1243080"/>
                              <a:chExt cx="63720" cy="54000"/>
                            </a:xfrm>
                          </p:grpSpPr>
                          <p:grpSp>
                            <p:nvGrpSpPr>
                              <p:cNvPr id="299" name=""/>
                              <p:cNvGrpSpPr/>
                              <p:nvPr/>
                            </p:nvGrpSpPr>
                            <p:grpSpPr>
                              <a:xfrm>
                                <a:off x="4886280" y="1243080"/>
                                <a:ext cx="38160" cy="54000"/>
                                <a:chOff x="488628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300" name=""/>
                                <p:cNvSpPr/>
                                <p:nvPr/>
                              </p:nvSpPr>
                              <p:spPr>
                                <a:xfrm>
                                  <a:off x="48862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1" name=""/>
                                <p:cNvSpPr/>
                                <p:nvPr/>
                              </p:nvSpPr>
                              <p:spPr>
                                <a:xfrm>
                                  <a:off x="48974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2" name=""/>
                              <p:cNvGrpSpPr/>
                              <p:nvPr/>
                            </p:nvGrpSpPr>
                            <p:grpSpPr>
                              <a:xfrm>
                                <a:off x="4910040" y="1243080"/>
                                <a:ext cx="39960" cy="54000"/>
                                <a:chOff x="491004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303" name=""/>
                                <p:cNvSpPr/>
                                <p:nvPr/>
                              </p:nvSpPr>
                              <p:spPr>
                                <a:xfrm>
                                  <a:off x="49100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" name=""/>
                                <p:cNvSpPr/>
                                <p:nvPr/>
                              </p:nvSpPr>
                              <p:spPr>
                                <a:xfrm>
                                  <a:off x="49230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05" name=""/>
                            <p:cNvGrpSpPr/>
                            <p:nvPr/>
                          </p:nvGrpSpPr>
                          <p:grpSpPr>
                            <a:xfrm>
                              <a:off x="4933800" y="1243080"/>
                              <a:ext cx="63720" cy="54000"/>
                              <a:chOff x="4933800" y="1243080"/>
                              <a:chExt cx="63720" cy="54000"/>
                            </a:xfrm>
                          </p:grpSpPr>
                          <p:grpSp>
                            <p:nvGrpSpPr>
                              <p:cNvPr id="306" name=""/>
                              <p:cNvGrpSpPr/>
                              <p:nvPr/>
                            </p:nvGrpSpPr>
                            <p:grpSpPr>
                              <a:xfrm>
                                <a:off x="4933800" y="1243080"/>
                                <a:ext cx="39960" cy="54000"/>
                                <a:chOff x="493380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307" name=""/>
                                <p:cNvSpPr/>
                                <p:nvPr/>
                              </p:nvSpPr>
                              <p:spPr>
                                <a:xfrm>
                                  <a:off x="49338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8" name=""/>
                                <p:cNvSpPr/>
                                <p:nvPr/>
                              </p:nvSpPr>
                              <p:spPr>
                                <a:xfrm>
                                  <a:off x="49467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9" name=""/>
                              <p:cNvGrpSpPr/>
                              <p:nvPr/>
                            </p:nvGrpSpPr>
                            <p:grpSpPr>
                              <a:xfrm>
                                <a:off x="4959360" y="1243080"/>
                                <a:ext cx="38160" cy="54000"/>
                                <a:chOff x="495936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310" name=""/>
                                <p:cNvSpPr/>
                                <p:nvPr/>
                              </p:nvSpPr>
                              <p:spPr>
                                <a:xfrm>
                                  <a:off x="49593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1" name=""/>
                                <p:cNvSpPr/>
                                <p:nvPr/>
                              </p:nvSpPr>
                              <p:spPr>
                                <a:xfrm>
                                  <a:off x="49705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205160" y="1065240"/>
                    <a:ext cx="757440" cy="123840"/>
                    <a:chOff x="4205160" y="1065240"/>
                    <a:chExt cx="757440" cy="1238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4205160" y="1065240"/>
                      <a:ext cx="150840" cy="1238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373640" y="1065240"/>
                      <a:ext cx="220680" cy="1238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4611600" y="1065240"/>
                      <a:ext cx="239760" cy="1238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4870440" y="1065240"/>
                      <a:ext cx="92160" cy="1238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4881600" y="1076040"/>
                  <a:ext cx="58680" cy="55800"/>
                  <a:chOff x="4881600" y="1076040"/>
                  <a:chExt cx="58680" cy="558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4916520" y="1081080"/>
                    <a:ext cx="23760" cy="5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4921200" y="1096200"/>
                    <a:ext cx="14400" cy="46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4881600" y="1076040"/>
                    <a:ext cx="360" cy="50760"/>
                    <a:chOff x="4881600" y="1076040"/>
                    <a:chExt cx="360" cy="5076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V="1">
                      <a:off x="4881600" y="1075680"/>
                      <a:ext cx="360" cy="12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V="1">
                      <a:off x="4881600" y="1115280"/>
                      <a:ext cx="360" cy="11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4381560" y="1076040"/>
                  <a:ext cx="203040" cy="84600"/>
                  <a:chOff x="4381560" y="1076040"/>
                  <a:chExt cx="203040" cy="8460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384800" y="1085760"/>
                    <a:ext cx="199800" cy="33480"/>
                    <a:chOff x="4384800" y="1085760"/>
                    <a:chExt cx="199800" cy="334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451400" y="1085760"/>
                      <a:ext cx="65160" cy="334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320" bIns="-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451400" y="1108080"/>
                      <a:ext cx="65160" cy="11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4384800" y="1103400"/>
                      <a:ext cx="19980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 flipV="1">
                    <a:off x="4381560" y="1075680"/>
                    <a:ext cx="1440" cy="11160"/>
                  </a:xfrm>
                  <a:prstGeom prst="rect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557600" y="1152360"/>
                    <a:ext cx="792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4208400" y="1163520"/>
                  <a:ext cx="165240" cy="27000"/>
                  <a:chOff x="4208400" y="1163520"/>
                  <a:chExt cx="165240" cy="2700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4208400" y="1163520"/>
                    <a:ext cx="90720" cy="27000"/>
                    <a:chOff x="4208400" y="1163520"/>
                    <a:chExt cx="90720" cy="2700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4208400" y="1163520"/>
                      <a:ext cx="54000" cy="27000"/>
                      <a:chOff x="4208400" y="1163520"/>
                      <a:chExt cx="54000" cy="27000"/>
                    </a:xfrm>
                  </p:grpSpPr>
                  <p:grpSp>
                    <p:nvGrpSpPr>
                      <p:cNvPr id="333" name=""/>
                      <p:cNvGrpSpPr/>
                      <p:nvPr/>
                    </p:nvGrpSpPr>
                    <p:grpSpPr>
                      <a:xfrm>
                        <a:off x="4208400" y="1163520"/>
                        <a:ext cx="34920" cy="27000"/>
                        <a:chOff x="4208400" y="1163520"/>
                        <a:chExt cx="34920" cy="27000"/>
                      </a:xfrm>
                    </p:grpSpPr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420840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421632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6" name=""/>
                      <p:cNvGrpSpPr/>
                      <p:nvPr/>
                    </p:nvGrpSpPr>
                    <p:grpSpPr>
                      <a:xfrm>
                        <a:off x="4226040" y="1163520"/>
                        <a:ext cx="36360" cy="27000"/>
                        <a:chOff x="4226040" y="1163520"/>
                        <a:chExt cx="36360" cy="27000"/>
                      </a:xfrm>
                    </p:grpSpPr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422604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423540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9" name=""/>
                    <p:cNvGrpSpPr/>
                    <p:nvPr/>
                  </p:nvGrpSpPr>
                  <p:grpSpPr>
                    <a:xfrm>
                      <a:off x="4245120" y="1163520"/>
                      <a:ext cx="54000" cy="27000"/>
                      <a:chOff x="4245120" y="1163520"/>
                      <a:chExt cx="54000" cy="27000"/>
                    </a:xfrm>
                  </p:grpSpPr>
                  <p:grpSp>
                    <p:nvGrpSpPr>
                      <p:cNvPr id="340" name=""/>
                      <p:cNvGrpSpPr/>
                      <p:nvPr/>
                    </p:nvGrpSpPr>
                    <p:grpSpPr>
                      <a:xfrm>
                        <a:off x="4245120" y="1163520"/>
                        <a:ext cx="36360" cy="27000"/>
                        <a:chOff x="4245120" y="1163520"/>
                        <a:chExt cx="36360" cy="27000"/>
                      </a:xfrm>
                    </p:grpSpPr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24512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>
                          <a:off x="425448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3" name=""/>
                      <p:cNvGrpSpPr/>
                      <p:nvPr/>
                    </p:nvGrpSpPr>
                    <p:grpSpPr>
                      <a:xfrm>
                        <a:off x="4264200" y="1163520"/>
                        <a:ext cx="34920" cy="27000"/>
                        <a:chOff x="4264200" y="1163520"/>
                        <a:chExt cx="34920" cy="27000"/>
                      </a:xfrm>
                    </p:grpSpPr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>
                          <a:off x="4264200" y="1163520"/>
                          <a:ext cx="2664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>
                          <a:off x="427212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4281480" y="1163520"/>
                    <a:ext cx="92160" cy="27000"/>
                    <a:chOff x="4281480" y="1163520"/>
                    <a:chExt cx="92160" cy="27000"/>
                  </a:xfrm>
                </p:grpSpPr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4281480" y="1163520"/>
                      <a:ext cx="54000" cy="27000"/>
                      <a:chOff x="4281480" y="1163520"/>
                      <a:chExt cx="54000" cy="27000"/>
                    </a:xfrm>
                  </p:grpSpPr>
                  <p:grpSp>
                    <p:nvGrpSpPr>
                      <p:cNvPr id="348" name=""/>
                      <p:cNvGrpSpPr/>
                      <p:nvPr/>
                    </p:nvGrpSpPr>
                    <p:grpSpPr>
                      <a:xfrm>
                        <a:off x="4281480" y="1163520"/>
                        <a:ext cx="36360" cy="27000"/>
                        <a:chOff x="4281480" y="1163520"/>
                        <a:chExt cx="36360" cy="27000"/>
                      </a:xfrm>
                    </p:grpSpPr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>
                          <a:off x="428148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>
                          <a:off x="429084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1" name=""/>
                      <p:cNvGrpSpPr/>
                      <p:nvPr/>
                    </p:nvGrpSpPr>
                    <p:grpSpPr>
                      <a:xfrm>
                        <a:off x="4300560" y="1163520"/>
                        <a:ext cx="34920" cy="27000"/>
                        <a:chOff x="4300560" y="1163520"/>
                        <a:chExt cx="34920" cy="27000"/>
                      </a:xfrm>
                    </p:grpSpPr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430056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>
                          <a:off x="430848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4" name=""/>
                    <p:cNvGrpSpPr/>
                    <p:nvPr/>
                  </p:nvGrpSpPr>
                  <p:grpSpPr>
                    <a:xfrm>
                      <a:off x="4317840" y="1163520"/>
                      <a:ext cx="55800" cy="27000"/>
                      <a:chOff x="4317840" y="1163520"/>
                      <a:chExt cx="55800" cy="27000"/>
                    </a:xfrm>
                  </p:grpSpPr>
                  <p:grpSp>
                    <p:nvGrpSpPr>
                      <p:cNvPr id="355" name=""/>
                      <p:cNvGrpSpPr/>
                      <p:nvPr/>
                    </p:nvGrpSpPr>
                    <p:grpSpPr>
                      <a:xfrm>
                        <a:off x="4317840" y="1163520"/>
                        <a:ext cx="36720" cy="27000"/>
                        <a:chOff x="4317840" y="1163520"/>
                        <a:chExt cx="36720" cy="27000"/>
                      </a:xfrm>
                    </p:grpSpPr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>
                          <a:off x="431784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>
                          <a:off x="432756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8" name=""/>
                      <p:cNvGrpSpPr/>
                      <p:nvPr/>
                    </p:nvGrpSpPr>
                    <p:grpSpPr>
                      <a:xfrm>
                        <a:off x="4336920" y="1163520"/>
                        <a:ext cx="36720" cy="27000"/>
                        <a:chOff x="4336920" y="1163520"/>
                        <a:chExt cx="36720" cy="27000"/>
                      </a:xfrm>
                    </p:grpSpPr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>
                          <a:off x="433692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>
                          <a:off x="434664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61" name=""/>
                <p:cNvSpPr/>
                <p:nvPr/>
              </p:nvSpPr>
              <p:spPr>
                <a:xfrm>
                  <a:off x="4200480" y="1139760"/>
                  <a:ext cx="777960" cy="27000"/>
                </a:xfrm>
                <a:custGeom>
                  <a:avLst/>
                  <a:gdLst/>
                  <a:ahLst/>
                  <a:rect l="l" t="t" r="r" b="b"/>
                  <a:pathLst>
                    <a:path w="490" h="17">
                      <a:moveTo>
                        <a:pt x="0" y="11"/>
                      </a:moveTo>
                      <a:lnTo>
                        <a:pt x="215" y="11"/>
                      </a:lnTo>
                      <a:lnTo>
                        <a:pt x="215" y="0"/>
                      </a:lnTo>
                      <a:lnTo>
                        <a:pt x="249" y="0"/>
                      </a:lnTo>
                      <a:lnTo>
                        <a:pt x="249" y="16"/>
                      </a:lnTo>
                      <a:lnTo>
                        <a:pt x="489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929040" y="1293840"/>
                <a:ext cx="1289160" cy="183960"/>
                <a:chOff x="3929040" y="1293840"/>
                <a:chExt cx="1289160" cy="18396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3929040" y="1293840"/>
                  <a:ext cx="1289160" cy="183960"/>
                  <a:chOff x="3929040" y="1293840"/>
                  <a:chExt cx="1289160" cy="1839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3935520" y="1457280"/>
                    <a:ext cx="1268280" cy="205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929040" y="1293840"/>
                    <a:ext cx="128916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102">
                        <a:moveTo>
                          <a:pt x="0" y="101"/>
                        </a:moveTo>
                        <a:lnTo>
                          <a:pt x="811" y="101"/>
                        </a:lnTo>
                        <a:lnTo>
                          <a:pt x="764" y="1"/>
                        </a:lnTo>
                        <a:lnTo>
                          <a:pt x="59" y="0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967200" y="1311120"/>
                    <a:ext cx="12081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1" h="79">
                        <a:moveTo>
                          <a:pt x="44" y="0"/>
                        </a:moveTo>
                        <a:lnTo>
                          <a:pt x="0" y="78"/>
                        </a:lnTo>
                        <a:lnTo>
                          <a:pt x="760" y="78"/>
                        </a:lnTo>
                        <a:lnTo>
                          <a:pt x="7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4071960" y="1309680"/>
                  <a:ext cx="1014480" cy="39600"/>
                  <a:chOff x="4071960" y="1309680"/>
                  <a:chExt cx="1014480" cy="396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4071960" y="1309680"/>
                    <a:ext cx="41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7" y="0"/>
                        </a:moveTo>
                        <a:lnTo>
                          <a:pt x="25" y="0"/>
                        </a:lnTo>
                        <a:lnTo>
                          <a:pt x="19" y="16"/>
                        </a:lnTo>
                        <a:lnTo>
                          <a:pt x="0" y="16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4168800" y="1309680"/>
                    <a:ext cx="162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7">
                        <a:moveTo>
                          <a:pt x="5" y="0"/>
                        </a:moveTo>
                        <a:lnTo>
                          <a:pt x="101" y="0"/>
                        </a:lnTo>
                        <a:lnTo>
                          <a:pt x="97" y="16"/>
                        </a:lnTo>
                        <a:lnTo>
                          <a:pt x="0" y="1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4375080" y="1309680"/>
                    <a:ext cx="154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3" y="0"/>
                        </a:moveTo>
                        <a:lnTo>
                          <a:pt x="96" y="0"/>
                        </a:lnTo>
                        <a:lnTo>
                          <a:pt x="95" y="16"/>
                        </a:lnTo>
                        <a:lnTo>
                          <a:pt x="0" y="16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4557600" y="1309680"/>
                    <a:ext cx="157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7">
                        <a:moveTo>
                          <a:pt x="1" y="0"/>
                        </a:moveTo>
                        <a:lnTo>
                          <a:pt x="98" y="0"/>
                        </a:lnTo>
                        <a:lnTo>
                          <a:pt x="98" y="16"/>
                        </a:lnTo>
                        <a:lnTo>
                          <a:pt x="0" y="1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4746600" y="1309680"/>
                    <a:ext cx="1382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7">
                        <a:moveTo>
                          <a:pt x="0" y="0"/>
                        </a:moveTo>
                        <a:lnTo>
                          <a:pt x="84" y="0"/>
                        </a:lnTo>
                        <a:lnTo>
                          <a:pt x="86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915080" y="1322280"/>
                    <a:ext cx="171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7">
                        <a:moveTo>
                          <a:pt x="0" y="0"/>
                        </a:moveTo>
                        <a:lnTo>
                          <a:pt x="97" y="0"/>
                        </a:lnTo>
                        <a:lnTo>
                          <a:pt x="107" y="16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4032360" y="1351080"/>
                  <a:ext cx="1065240" cy="64800"/>
                  <a:chOff x="4032360" y="1351080"/>
                  <a:chExt cx="1065240" cy="6480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4124160" y="1353960"/>
                    <a:ext cx="527040" cy="55800"/>
                    <a:chOff x="4124160" y="1353960"/>
                    <a:chExt cx="527040" cy="558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124160" y="1353960"/>
                      <a:ext cx="498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145040" y="1373040"/>
                      <a:ext cx="506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149720" y="1390680"/>
                      <a:ext cx="442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160880" y="14097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4032360" y="1362240"/>
                    <a:ext cx="88920" cy="36360"/>
                    <a:chOff x="4032360" y="1362240"/>
                    <a:chExt cx="88920" cy="363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054320" y="1362240"/>
                      <a:ext cx="49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044960" y="1380960"/>
                      <a:ext cx="49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032360" y="1398600"/>
                      <a:ext cx="88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4237200" y="1351080"/>
                    <a:ext cx="482400" cy="60120"/>
                    <a:chOff x="4237200" y="1351080"/>
                    <a:chExt cx="482400" cy="6012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237200" y="1409760"/>
                      <a:ext cx="301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648320" y="135108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665600" y="1373040"/>
                      <a:ext cx="54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4626000" y="1390680"/>
                      <a:ext cx="93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551480" y="140976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611600" y="1411200"/>
                      <a:ext cx="103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745160" y="1362240"/>
                    <a:ext cx="149040" cy="50760"/>
                    <a:chOff x="4745160" y="1362240"/>
                    <a:chExt cx="149040" cy="5076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4745160" y="1362240"/>
                      <a:ext cx="141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764240" y="1384200"/>
                      <a:ext cx="123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5680" y="1413000"/>
                      <a:ext cx="128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4919760" y="1362240"/>
                    <a:ext cx="177840" cy="53640"/>
                    <a:chOff x="4919760" y="1362240"/>
                    <a:chExt cx="177840" cy="536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933800" y="1362240"/>
                      <a:ext cx="135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4919760" y="1382760"/>
                      <a:ext cx="109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4933800" y="1398600"/>
                      <a:ext cx="101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4929120" y="1415880"/>
                      <a:ext cx="127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051520" y="1382760"/>
                      <a:ext cx="36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064120" y="1406520"/>
                      <a:ext cx="33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4308480" y="890640"/>
                <a:ext cx="560520" cy="114120"/>
                <a:chOff x="4308480" y="890640"/>
                <a:chExt cx="560520" cy="114120"/>
              </a:xfrm>
            </p:grpSpPr>
            <p:grpSp>
              <p:nvGrpSpPr>
                <p:cNvPr id="403" name=""/>
                <p:cNvGrpSpPr/>
                <p:nvPr/>
              </p:nvGrpSpPr>
              <p:grpSpPr>
                <a:xfrm>
                  <a:off x="4308480" y="930240"/>
                  <a:ext cx="560520" cy="74520"/>
                  <a:chOff x="4308480" y="930240"/>
                  <a:chExt cx="560520" cy="7452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4308480" y="930240"/>
                    <a:ext cx="5605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3" h="29">
                        <a:moveTo>
                          <a:pt x="0" y="28"/>
                        </a:moveTo>
                        <a:lnTo>
                          <a:pt x="352" y="28"/>
                        </a:lnTo>
                        <a:lnTo>
                          <a:pt x="332" y="0"/>
                        </a:lnTo>
                        <a:lnTo>
                          <a:pt x="21" y="0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313160" y="979560"/>
                    <a:ext cx="54144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>
                  <a:off x="4438800" y="890640"/>
                  <a:ext cx="298440" cy="85680"/>
                </a:xfrm>
                <a:custGeom>
                  <a:avLst/>
                  <a:gdLst/>
                  <a:ahLst/>
                  <a:rect l="l" t="t" r="r" b="b"/>
                  <a:pathLst>
                    <a:path w="188" h="54">
                      <a:moveTo>
                        <a:pt x="0" y="30"/>
                      </a:moveTo>
                      <a:lnTo>
                        <a:pt x="0" y="0"/>
                      </a:lnTo>
                      <a:lnTo>
                        <a:pt x="187" y="0"/>
                      </a:lnTo>
                      <a:lnTo>
                        <a:pt x="187" y="30"/>
                      </a:lnTo>
                      <a:lnTo>
                        <a:pt x="186" y="33"/>
                      </a:lnTo>
                      <a:lnTo>
                        <a:pt x="184" y="36"/>
                      </a:lnTo>
                      <a:lnTo>
                        <a:pt x="181" y="38"/>
                      </a:lnTo>
                      <a:lnTo>
                        <a:pt x="177" y="40"/>
                      </a:lnTo>
                      <a:lnTo>
                        <a:pt x="171" y="42"/>
                      </a:lnTo>
                      <a:lnTo>
                        <a:pt x="166" y="44"/>
                      </a:lnTo>
                      <a:lnTo>
                        <a:pt x="160" y="46"/>
                      </a:lnTo>
                      <a:lnTo>
                        <a:pt x="153" y="47"/>
                      </a:lnTo>
                      <a:lnTo>
                        <a:pt x="147" y="49"/>
                      </a:lnTo>
                      <a:lnTo>
                        <a:pt x="137" y="50"/>
                      </a:lnTo>
                      <a:lnTo>
                        <a:pt x="129" y="51"/>
                      </a:lnTo>
                      <a:lnTo>
                        <a:pt x="121" y="52"/>
                      </a:lnTo>
                      <a:lnTo>
                        <a:pt x="112" y="52"/>
                      </a:lnTo>
                      <a:lnTo>
                        <a:pt x="102" y="53"/>
                      </a:lnTo>
                      <a:lnTo>
                        <a:pt x="89" y="53"/>
                      </a:lnTo>
                      <a:lnTo>
                        <a:pt x="76" y="52"/>
                      </a:lnTo>
                      <a:lnTo>
                        <a:pt x="65" y="52"/>
                      </a:lnTo>
                      <a:lnTo>
                        <a:pt x="55" y="51"/>
                      </a:lnTo>
                      <a:lnTo>
                        <a:pt x="46" y="50"/>
                      </a:lnTo>
                      <a:lnTo>
                        <a:pt x="39" y="49"/>
                      </a:lnTo>
                      <a:lnTo>
                        <a:pt x="30" y="46"/>
                      </a:lnTo>
                      <a:lnTo>
                        <a:pt x="24" y="45"/>
                      </a:lnTo>
                      <a:lnTo>
                        <a:pt x="17" y="43"/>
                      </a:lnTo>
                      <a:lnTo>
                        <a:pt x="11" y="41"/>
                      </a:lnTo>
                      <a:lnTo>
                        <a:pt x="7" y="38"/>
                      </a:lnTo>
                      <a:lnTo>
                        <a:pt x="4" y="37"/>
                      </a:lnTo>
                      <a:lnTo>
                        <a:pt x="2" y="35"/>
                      </a:lnTo>
                      <a:lnTo>
                        <a:pt x="1" y="33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4245120" y="352440"/>
                <a:ext cx="676080" cy="542880"/>
              </a:xfrm>
              <a:prstGeom prst="roundRect">
                <a:avLst>
                  <a:gd name="adj" fmla="val 12269"/>
                </a:avLst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22880" y="414360"/>
                <a:ext cx="520560" cy="419040"/>
              </a:xfrm>
              <a:prstGeom prst="roundRect">
                <a:avLst>
                  <a:gd name="adj" fmla="val 12106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52760" y="438120"/>
                <a:ext cx="460440" cy="371520"/>
              </a:xfrm>
              <a:prstGeom prst="roundRect">
                <a:avLst>
                  <a:gd name="adj" fmla="val 12130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4826160" y="867600"/>
                <a:ext cx="1440" cy="1260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2314440" y="3905280"/>
              <a:ext cx="4621320" cy="2919240"/>
              <a:chOff x="2314440" y="3905280"/>
              <a:chExt cx="4621320" cy="291924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5438880" y="5029200"/>
                <a:ext cx="1496880" cy="1751040"/>
                <a:chOff x="5438880" y="5029200"/>
                <a:chExt cx="1496880" cy="17510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194520" y="5410080"/>
                  <a:ext cx="741240" cy="1038240"/>
                </a:xfrm>
                <a:custGeom>
                  <a:avLst/>
                  <a:gdLst/>
                  <a:ahLst/>
                  <a:rect l="l" t="t" r="r" b="b"/>
                  <a:pathLst>
                    <a:path w="467" h="654">
                      <a:moveTo>
                        <a:pt x="0" y="56"/>
                      </a:moveTo>
                      <a:lnTo>
                        <a:pt x="19" y="42"/>
                      </a:lnTo>
                      <a:lnTo>
                        <a:pt x="35" y="36"/>
                      </a:lnTo>
                      <a:lnTo>
                        <a:pt x="47" y="23"/>
                      </a:lnTo>
                      <a:lnTo>
                        <a:pt x="51" y="5"/>
                      </a:lnTo>
                      <a:lnTo>
                        <a:pt x="68" y="9"/>
                      </a:lnTo>
                      <a:lnTo>
                        <a:pt x="82" y="1"/>
                      </a:lnTo>
                      <a:lnTo>
                        <a:pt x="95" y="13"/>
                      </a:lnTo>
                      <a:lnTo>
                        <a:pt x="101" y="32"/>
                      </a:lnTo>
                      <a:lnTo>
                        <a:pt x="113" y="34"/>
                      </a:lnTo>
                      <a:lnTo>
                        <a:pt x="119" y="16"/>
                      </a:lnTo>
                      <a:lnTo>
                        <a:pt x="129" y="0"/>
                      </a:lnTo>
                      <a:lnTo>
                        <a:pt x="146" y="0"/>
                      </a:lnTo>
                      <a:lnTo>
                        <a:pt x="158" y="12"/>
                      </a:lnTo>
                      <a:lnTo>
                        <a:pt x="165" y="32"/>
                      </a:lnTo>
                      <a:lnTo>
                        <a:pt x="179" y="34"/>
                      </a:lnTo>
                      <a:lnTo>
                        <a:pt x="188" y="20"/>
                      </a:lnTo>
                      <a:lnTo>
                        <a:pt x="204" y="12"/>
                      </a:lnTo>
                      <a:lnTo>
                        <a:pt x="214" y="30"/>
                      </a:lnTo>
                      <a:lnTo>
                        <a:pt x="231" y="32"/>
                      </a:lnTo>
                      <a:lnTo>
                        <a:pt x="237" y="47"/>
                      </a:lnTo>
                      <a:lnTo>
                        <a:pt x="231" y="69"/>
                      </a:lnTo>
                      <a:lnTo>
                        <a:pt x="249" y="70"/>
                      </a:lnTo>
                      <a:lnTo>
                        <a:pt x="267" y="54"/>
                      </a:lnTo>
                      <a:lnTo>
                        <a:pt x="286" y="57"/>
                      </a:lnTo>
                      <a:lnTo>
                        <a:pt x="295" y="80"/>
                      </a:lnTo>
                      <a:lnTo>
                        <a:pt x="303" y="87"/>
                      </a:lnTo>
                      <a:lnTo>
                        <a:pt x="319" y="74"/>
                      </a:lnTo>
                      <a:lnTo>
                        <a:pt x="341" y="82"/>
                      </a:lnTo>
                      <a:lnTo>
                        <a:pt x="354" y="94"/>
                      </a:lnTo>
                      <a:lnTo>
                        <a:pt x="347" y="119"/>
                      </a:lnTo>
                      <a:lnTo>
                        <a:pt x="351" y="132"/>
                      </a:lnTo>
                      <a:lnTo>
                        <a:pt x="365" y="137"/>
                      </a:lnTo>
                      <a:lnTo>
                        <a:pt x="362" y="162"/>
                      </a:lnTo>
                      <a:lnTo>
                        <a:pt x="374" y="176"/>
                      </a:lnTo>
                      <a:lnTo>
                        <a:pt x="391" y="170"/>
                      </a:lnTo>
                      <a:lnTo>
                        <a:pt x="400" y="148"/>
                      </a:lnTo>
                      <a:lnTo>
                        <a:pt x="411" y="152"/>
                      </a:lnTo>
                      <a:lnTo>
                        <a:pt x="413" y="175"/>
                      </a:lnTo>
                      <a:lnTo>
                        <a:pt x="424" y="195"/>
                      </a:lnTo>
                      <a:lnTo>
                        <a:pt x="431" y="220"/>
                      </a:lnTo>
                      <a:lnTo>
                        <a:pt x="426" y="239"/>
                      </a:lnTo>
                      <a:lnTo>
                        <a:pt x="417" y="255"/>
                      </a:lnTo>
                      <a:lnTo>
                        <a:pt x="437" y="253"/>
                      </a:lnTo>
                      <a:lnTo>
                        <a:pt x="446" y="270"/>
                      </a:lnTo>
                      <a:lnTo>
                        <a:pt x="458" y="295"/>
                      </a:lnTo>
                      <a:lnTo>
                        <a:pt x="464" y="327"/>
                      </a:lnTo>
                      <a:lnTo>
                        <a:pt x="463" y="342"/>
                      </a:lnTo>
                      <a:lnTo>
                        <a:pt x="460" y="370"/>
                      </a:lnTo>
                      <a:lnTo>
                        <a:pt x="466" y="401"/>
                      </a:lnTo>
                      <a:lnTo>
                        <a:pt x="452" y="495"/>
                      </a:lnTo>
                      <a:lnTo>
                        <a:pt x="428" y="496"/>
                      </a:lnTo>
                      <a:lnTo>
                        <a:pt x="415" y="530"/>
                      </a:lnTo>
                      <a:lnTo>
                        <a:pt x="392" y="546"/>
                      </a:lnTo>
                      <a:lnTo>
                        <a:pt x="372" y="559"/>
                      </a:lnTo>
                      <a:lnTo>
                        <a:pt x="369" y="584"/>
                      </a:lnTo>
                      <a:lnTo>
                        <a:pt x="340" y="595"/>
                      </a:lnTo>
                      <a:lnTo>
                        <a:pt x="324" y="584"/>
                      </a:lnTo>
                      <a:lnTo>
                        <a:pt x="318" y="583"/>
                      </a:lnTo>
                      <a:lnTo>
                        <a:pt x="305" y="585"/>
                      </a:lnTo>
                      <a:lnTo>
                        <a:pt x="290" y="568"/>
                      </a:lnTo>
                      <a:lnTo>
                        <a:pt x="264" y="575"/>
                      </a:lnTo>
                      <a:lnTo>
                        <a:pt x="224" y="613"/>
                      </a:lnTo>
                      <a:lnTo>
                        <a:pt x="204" y="634"/>
                      </a:lnTo>
                      <a:lnTo>
                        <a:pt x="182" y="653"/>
                      </a:lnTo>
                      <a:lnTo>
                        <a:pt x="167" y="652"/>
                      </a:lnTo>
                      <a:lnTo>
                        <a:pt x="159" y="639"/>
                      </a:lnTo>
                      <a:lnTo>
                        <a:pt x="149" y="632"/>
                      </a:lnTo>
                      <a:lnTo>
                        <a:pt x="132" y="646"/>
                      </a:lnTo>
                      <a:lnTo>
                        <a:pt x="121" y="628"/>
                      </a:lnTo>
                      <a:lnTo>
                        <a:pt x="119" y="603"/>
                      </a:lnTo>
                      <a:lnTo>
                        <a:pt x="78" y="553"/>
                      </a:lnTo>
                      <a:lnTo>
                        <a:pt x="56" y="554"/>
                      </a:lnTo>
                      <a:lnTo>
                        <a:pt x="47" y="539"/>
                      </a:lnTo>
                      <a:lnTo>
                        <a:pt x="22" y="446"/>
                      </a:lnTo>
                      <a:lnTo>
                        <a:pt x="4" y="443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38880" y="5029200"/>
                  <a:ext cx="1019160" cy="1077840"/>
                </a:xfrm>
                <a:custGeom>
                  <a:avLst/>
                  <a:gdLst/>
                  <a:ahLst/>
                  <a:rect l="l" t="t" r="r" b="b"/>
                  <a:pathLst>
                    <a:path w="642" h="679">
                      <a:moveTo>
                        <a:pt x="417" y="630"/>
                      </a:moveTo>
                      <a:lnTo>
                        <a:pt x="387" y="592"/>
                      </a:lnTo>
                      <a:lnTo>
                        <a:pt x="379" y="572"/>
                      </a:lnTo>
                      <a:lnTo>
                        <a:pt x="348" y="649"/>
                      </a:lnTo>
                      <a:lnTo>
                        <a:pt x="317" y="657"/>
                      </a:lnTo>
                      <a:lnTo>
                        <a:pt x="268" y="659"/>
                      </a:lnTo>
                      <a:lnTo>
                        <a:pt x="247" y="678"/>
                      </a:lnTo>
                      <a:lnTo>
                        <a:pt x="185" y="662"/>
                      </a:lnTo>
                      <a:lnTo>
                        <a:pt x="182" y="607"/>
                      </a:lnTo>
                      <a:lnTo>
                        <a:pt x="168" y="605"/>
                      </a:lnTo>
                      <a:lnTo>
                        <a:pt x="165" y="623"/>
                      </a:lnTo>
                      <a:lnTo>
                        <a:pt x="152" y="613"/>
                      </a:lnTo>
                      <a:lnTo>
                        <a:pt x="131" y="604"/>
                      </a:lnTo>
                      <a:lnTo>
                        <a:pt x="116" y="636"/>
                      </a:lnTo>
                      <a:lnTo>
                        <a:pt x="74" y="589"/>
                      </a:lnTo>
                      <a:lnTo>
                        <a:pt x="51" y="582"/>
                      </a:lnTo>
                      <a:lnTo>
                        <a:pt x="39" y="552"/>
                      </a:lnTo>
                      <a:lnTo>
                        <a:pt x="48" y="522"/>
                      </a:lnTo>
                      <a:lnTo>
                        <a:pt x="31" y="538"/>
                      </a:lnTo>
                      <a:lnTo>
                        <a:pt x="12" y="533"/>
                      </a:lnTo>
                      <a:lnTo>
                        <a:pt x="12" y="508"/>
                      </a:lnTo>
                      <a:lnTo>
                        <a:pt x="0" y="394"/>
                      </a:lnTo>
                      <a:lnTo>
                        <a:pt x="10" y="367"/>
                      </a:lnTo>
                      <a:lnTo>
                        <a:pt x="9" y="342"/>
                      </a:lnTo>
                      <a:lnTo>
                        <a:pt x="23" y="328"/>
                      </a:lnTo>
                      <a:lnTo>
                        <a:pt x="14" y="294"/>
                      </a:lnTo>
                      <a:lnTo>
                        <a:pt x="36" y="234"/>
                      </a:lnTo>
                      <a:lnTo>
                        <a:pt x="51" y="223"/>
                      </a:lnTo>
                      <a:lnTo>
                        <a:pt x="64" y="228"/>
                      </a:lnTo>
                      <a:lnTo>
                        <a:pt x="74" y="207"/>
                      </a:lnTo>
                      <a:lnTo>
                        <a:pt x="75" y="190"/>
                      </a:lnTo>
                      <a:lnTo>
                        <a:pt x="83" y="171"/>
                      </a:lnTo>
                      <a:lnTo>
                        <a:pt x="59" y="162"/>
                      </a:lnTo>
                      <a:lnTo>
                        <a:pt x="64" y="142"/>
                      </a:lnTo>
                      <a:lnTo>
                        <a:pt x="81" y="137"/>
                      </a:lnTo>
                      <a:lnTo>
                        <a:pt x="152" y="122"/>
                      </a:lnTo>
                      <a:lnTo>
                        <a:pt x="191" y="97"/>
                      </a:lnTo>
                      <a:lnTo>
                        <a:pt x="231" y="84"/>
                      </a:lnTo>
                      <a:lnTo>
                        <a:pt x="230" y="61"/>
                      </a:lnTo>
                      <a:lnTo>
                        <a:pt x="278" y="42"/>
                      </a:lnTo>
                      <a:lnTo>
                        <a:pt x="306" y="40"/>
                      </a:lnTo>
                      <a:lnTo>
                        <a:pt x="346" y="54"/>
                      </a:lnTo>
                      <a:lnTo>
                        <a:pt x="348" y="37"/>
                      </a:lnTo>
                      <a:lnTo>
                        <a:pt x="381" y="17"/>
                      </a:lnTo>
                      <a:lnTo>
                        <a:pt x="394" y="16"/>
                      </a:lnTo>
                      <a:lnTo>
                        <a:pt x="411" y="0"/>
                      </a:lnTo>
                      <a:lnTo>
                        <a:pt x="472" y="21"/>
                      </a:lnTo>
                      <a:lnTo>
                        <a:pt x="492" y="23"/>
                      </a:lnTo>
                      <a:lnTo>
                        <a:pt x="530" y="78"/>
                      </a:lnTo>
                      <a:lnTo>
                        <a:pt x="561" y="74"/>
                      </a:lnTo>
                      <a:lnTo>
                        <a:pt x="606" y="169"/>
                      </a:lnTo>
                      <a:lnTo>
                        <a:pt x="628" y="220"/>
                      </a:lnTo>
                      <a:lnTo>
                        <a:pt x="617" y="252"/>
                      </a:lnTo>
                      <a:lnTo>
                        <a:pt x="641" y="294"/>
                      </a:lnTo>
                      <a:lnTo>
                        <a:pt x="633" y="310"/>
                      </a:lnTo>
                      <a:lnTo>
                        <a:pt x="636" y="353"/>
                      </a:lnTo>
                      <a:lnTo>
                        <a:pt x="611" y="391"/>
                      </a:lnTo>
                      <a:lnTo>
                        <a:pt x="600" y="433"/>
                      </a:lnTo>
                      <a:lnTo>
                        <a:pt x="597" y="454"/>
                      </a:lnTo>
                      <a:lnTo>
                        <a:pt x="569" y="475"/>
                      </a:lnTo>
                      <a:lnTo>
                        <a:pt x="602" y="493"/>
                      </a:lnTo>
                      <a:lnTo>
                        <a:pt x="617" y="541"/>
                      </a:lnTo>
                      <a:lnTo>
                        <a:pt x="600" y="546"/>
                      </a:lnTo>
                      <a:lnTo>
                        <a:pt x="567" y="546"/>
                      </a:lnTo>
                      <a:lnTo>
                        <a:pt x="541" y="567"/>
                      </a:lnTo>
                      <a:lnTo>
                        <a:pt x="541" y="591"/>
                      </a:lnTo>
                      <a:lnTo>
                        <a:pt x="551" y="608"/>
                      </a:lnTo>
                      <a:lnTo>
                        <a:pt x="547" y="627"/>
                      </a:lnTo>
                      <a:lnTo>
                        <a:pt x="536" y="641"/>
                      </a:lnTo>
                      <a:lnTo>
                        <a:pt x="519" y="640"/>
                      </a:lnTo>
                      <a:lnTo>
                        <a:pt x="499" y="624"/>
                      </a:lnTo>
                      <a:lnTo>
                        <a:pt x="480" y="617"/>
                      </a:lnTo>
                      <a:lnTo>
                        <a:pt x="451" y="627"/>
                      </a:lnTo>
                      <a:lnTo>
                        <a:pt x="417" y="630"/>
                      </a:lnTo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329520" y="5915160"/>
                  <a:ext cx="322200" cy="865080"/>
                </a:xfrm>
                <a:custGeom>
                  <a:avLst/>
                  <a:gdLst/>
                  <a:ahLst/>
                  <a:rect l="l" t="t" r="r" b="b"/>
                  <a:pathLst>
                    <a:path w="203" h="545">
                      <a:moveTo>
                        <a:pt x="49" y="542"/>
                      </a:moveTo>
                      <a:lnTo>
                        <a:pt x="79" y="544"/>
                      </a:lnTo>
                      <a:lnTo>
                        <a:pt x="74" y="408"/>
                      </a:lnTo>
                      <a:lnTo>
                        <a:pt x="80" y="285"/>
                      </a:lnTo>
                      <a:lnTo>
                        <a:pt x="98" y="232"/>
                      </a:lnTo>
                      <a:lnTo>
                        <a:pt x="142" y="134"/>
                      </a:lnTo>
                      <a:lnTo>
                        <a:pt x="202" y="82"/>
                      </a:lnTo>
                      <a:lnTo>
                        <a:pt x="183" y="79"/>
                      </a:lnTo>
                      <a:lnTo>
                        <a:pt x="136" y="126"/>
                      </a:lnTo>
                      <a:lnTo>
                        <a:pt x="180" y="46"/>
                      </a:lnTo>
                      <a:lnTo>
                        <a:pt x="171" y="43"/>
                      </a:lnTo>
                      <a:lnTo>
                        <a:pt x="86" y="206"/>
                      </a:lnTo>
                      <a:lnTo>
                        <a:pt x="98" y="143"/>
                      </a:lnTo>
                      <a:lnTo>
                        <a:pt x="112" y="37"/>
                      </a:lnTo>
                      <a:lnTo>
                        <a:pt x="105" y="0"/>
                      </a:lnTo>
                      <a:lnTo>
                        <a:pt x="86" y="146"/>
                      </a:lnTo>
                      <a:lnTo>
                        <a:pt x="74" y="185"/>
                      </a:lnTo>
                      <a:lnTo>
                        <a:pt x="61" y="146"/>
                      </a:lnTo>
                      <a:lnTo>
                        <a:pt x="18" y="99"/>
                      </a:lnTo>
                      <a:lnTo>
                        <a:pt x="0" y="94"/>
                      </a:lnTo>
                      <a:lnTo>
                        <a:pt x="47" y="152"/>
                      </a:lnTo>
                      <a:lnTo>
                        <a:pt x="58" y="248"/>
                      </a:lnTo>
                      <a:lnTo>
                        <a:pt x="44" y="362"/>
                      </a:lnTo>
                      <a:lnTo>
                        <a:pt x="42" y="494"/>
                      </a:lnTo>
                      <a:lnTo>
                        <a:pt x="49" y="54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872320" y="5610240"/>
                  <a:ext cx="322200" cy="865080"/>
                </a:xfrm>
                <a:custGeom>
                  <a:avLst/>
                  <a:gdLst/>
                  <a:ahLst/>
                  <a:rect l="l" t="t" r="r" b="b"/>
                  <a:pathLst>
                    <a:path w="203" h="545">
                      <a:moveTo>
                        <a:pt x="49" y="542"/>
                      </a:moveTo>
                      <a:lnTo>
                        <a:pt x="79" y="544"/>
                      </a:lnTo>
                      <a:lnTo>
                        <a:pt x="74" y="408"/>
                      </a:lnTo>
                      <a:lnTo>
                        <a:pt x="80" y="285"/>
                      </a:lnTo>
                      <a:lnTo>
                        <a:pt x="98" y="232"/>
                      </a:lnTo>
                      <a:lnTo>
                        <a:pt x="142" y="134"/>
                      </a:lnTo>
                      <a:lnTo>
                        <a:pt x="202" y="82"/>
                      </a:lnTo>
                      <a:lnTo>
                        <a:pt x="183" y="79"/>
                      </a:lnTo>
                      <a:lnTo>
                        <a:pt x="136" y="126"/>
                      </a:lnTo>
                      <a:lnTo>
                        <a:pt x="180" y="46"/>
                      </a:lnTo>
                      <a:lnTo>
                        <a:pt x="171" y="43"/>
                      </a:lnTo>
                      <a:lnTo>
                        <a:pt x="86" y="206"/>
                      </a:lnTo>
                      <a:lnTo>
                        <a:pt x="98" y="143"/>
                      </a:lnTo>
                      <a:lnTo>
                        <a:pt x="112" y="37"/>
                      </a:lnTo>
                      <a:lnTo>
                        <a:pt x="105" y="0"/>
                      </a:lnTo>
                      <a:lnTo>
                        <a:pt x="86" y="146"/>
                      </a:lnTo>
                      <a:lnTo>
                        <a:pt x="74" y="185"/>
                      </a:lnTo>
                      <a:lnTo>
                        <a:pt x="61" y="146"/>
                      </a:lnTo>
                      <a:lnTo>
                        <a:pt x="18" y="99"/>
                      </a:lnTo>
                      <a:lnTo>
                        <a:pt x="0" y="94"/>
                      </a:lnTo>
                      <a:lnTo>
                        <a:pt x="47" y="152"/>
                      </a:lnTo>
                      <a:lnTo>
                        <a:pt x="58" y="248"/>
                      </a:lnTo>
                      <a:lnTo>
                        <a:pt x="44" y="362"/>
                      </a:lnTo>
                      <a:lnTo>
                        <a:pt x="42" y="494"/>
                      </a:lnTo>
                      <a:lnTo>
                        <a:pt x="49" y="54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314440" y="4876920"/>
                <a:ext cx="1573200" cy="1830240"/>
                <a:chOff x="2314440" y="4876920"/>
                <a:chExt cx="1573200" cy="1830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146400" y="4967280"/>
                  <a:ext cx="741240" cy="1328760"/>
                </a:xfrm>
                <a:custGeom>
                  <a:avLst/>
                  <a:gdLst/>
                  <a:ahLst/>
                  <a:rect l="l" t="t" r="r" b="b"/>
                  <a:pathLst>
                    <a:path w="467" h="837">
                      <a:moveTo>
                        <a:pt x="0" y="72"/>
                      </a:moveTo>
                      <a:lnTo>
                        <a:pt x="19" y="54"/>
                      </a:lnTo>
                      <a:lnTo>
                        <a:pt x="35" y="47"/>
                      </a:lnTo>
                      <a:lnTo>
                        <a:pt x="47" y="29"/>
                      </a:lnTo>
                      <a:lnTo>
                        <a:pt x="51" y="6"/>
                      </a:lnTo>
                      <a:lnTo>
                        <a:pt x="68" y="12"/>
                      </a:lnTo>
                      <a:lnTo>
                        <a:pt x="82" y="1"/>
                      </a:lnTo>
                      <a:lnTo>
                        <a:pt x="95" y="17"/>
                      </a:lnTo>
                      <a:lnTo>
                        <a:pt x="101" y="41"/>
                      </a:lnTo>
                      <a:lnTo>
                        <a:pt x="113" y="44"/>
                      </a:lnTo>
                      <a:lnTo>
                        <a:pt x="119" y="20"/>
                      </a:lnTo>
                      <a:lnTo>
                        <a:pt x="129" y="0"/>
                      </a:lnTo>
                      <a:lnTo>
                        <a:pt x="146" y="0"/>
                      </a:lnTo>
                      <a:lnTo>
                        <a:pt x="158" y="15"/>
                      </a:lnTo>
                      <a:lnTo>
                        <a:pt x="165" y="41"/>
                      </a:lnTo>
                      <a:lnTo>
                        <a:pt x="179" y="44"/>
                      </a:lnTo>
                      <a:lnTo>
                        <a:pt x="188" y="26"/>
                      </a:lnTo>
                      <a:lnTo>
                        <a:pt x="204" y="15"/>
                      </a:lnTo>
                      <a:lnTo>
                        <a:pt x="214" y="38"/>
                      </a:lnTo>
                      <a:lnTo>
                        <a:pt x="231" y="41"/>
                      </a:lnTo>
                      <a:lnTo>
                        <a:pt x="237" y="60"/>
                      </a:lnTo>
                      <a:lnTo>
                        <a:pt x="231" y="88"/>
                      </a:lnTo>
                      <a:lnTo>
                        <a:pt x="249" y="89"/>
                      </a:lnTo>
                      <a:lnTo>
                        <a:pt x="267" y="70"/>
                      </a:lnTo>
                      <a:lnTo>
                        <a:pt x="286" y="73"/>
                      </a:lnTo>
                      <a:lnTo>
                        <a:pt x="295" y="102"/>
                      </a:lnTo>
                      <a:lnTo>
                        <a:pt x="303" y="111"/>
                      </a:lnTo>
                      <a:lnTo>
                        <a:pt x="319" y="94"/>
                      </a:lnTo>
                      <a:lnTo>
                        <a:pt x="341" y="105"/>
                      </a:lnTo>
                      <a:lnTo>
                        <a:pt x="354" y="120"/>
                      </a:lnTo>
                      <a:lnTo>
                        <a:pt x="347" y="152"/>
                      </a:lnTo>
                      <a:lnTo>
                        <a:pt x="351" y="169"/>
                      </a:lnTo>
                      <a:lnTo>
                        <a:pt x="365" y="175"/>
                      </a:lnTo>
                      <a:lnTo>
                        <a:pt x="362" y="207"/>
                      </a:lnTo>
                      <a:lnTo>
                        <a:pt x="374" y="226"/>
                      </a:lnTo>
                      <a:lnTo>
                        <a:pt x="391" y="218"/>
                      </a:lnTo>
                      <a:lnTo>
                        <a:pt x="400" y="190"/>
                      </a:lnTo>
                      <a:lnTo>
                        <a:pt x="411" y="195"/>
                      </a:lnTo>
                      <a:lnTo>
                        <a:pt x="413" y="224"/>
                      </a:lnTo>
                      <a:lnTo>
                        <a:pt x="424" y="250"/>
                      </a:lnTo>
                      <a:lnTo>
                        <a:pt x="431" y="281"/>
                      </a:lnTo>
                      <a:lnTo>
                        <a:pt x="426" y="306"/>
                      </a:lnTo>
                      <a:lnTo>
                        <a:pt x="417" y="326"/>
                      </a:lnTo>
                      <a:lnTo>
                        <a:pt x="437" y="324"/>
                      </a:lnTo>
                      <a:lnTo>
                        <a:pt x="446" y="346"/>
                      </a:lnTo>
                      <a:lnTo>
                        <a:pt x="458" y="378"/>
                      </a:lnTo>
                      <a:lnTo>
                        <a:pt x="464" y="418"/>
                      </a:lnTo>
                      <a:lnTo>
                        <a:pt x="463" y="438"/>
                      </a:lnTo>
                      <a:lnTo>
                        <a:pt x="460" y="473"/>
                      </a:lnTo>
                      <a:lnTo>
                        <a:pt x="466" y="513"/>
                      </a:lnTo>
                      <a:lnTo>
                        <a:pt x="452" y="633"/>
                      </a:lnTo>
                      <a:lnTo>
                        <a:pt x="428" y="635"/>
                      </a:lnTo>
                      <a:lnTo>
                        <a:pt x="415" y="679"/>
                      </a:lnTo>
                      <a:lnTo>
                        <a:pt x="392" y="699"/>
                      </a:lnTo>
                      <a:lnTo>
                        <a:pt x="372" y="716"/>
                      </a:lnTo>
                      <a:lnTo>
                        <a:pt x="369" y="748"/>
                      </a:lnTo>
                      <a:lnTo>
                        <a:pt x="340" y="761"/>
                      </a:lnTo>
                      <a:lnTo>
                        <a:pt x="324" y="748"/>
                      </a:lnTo>
                      <a:lnTo>
                        <a:pt x="318" y="747"/>
                      </a:lnTo>
                      <a:lnTo>
                        <a:pt x="305" y="750"/>
                      </a:lnTo>
                      <a:lnTo>
                        <a:pt x="290" y="728"/>
                      </a:lnTo>
                      <a:lnTo>
                        <a:pt x="264" y="736"/>
                      </a:lnTo>
                      <a:lnTo>
                        <a:pt x="224" y="784"/>
                      </a:lnTo>
                      <a:lnTo>
                        <a:pt x="204" y="812"/>
                      </a:lnTo>
                      <a:lnTo>
                        <a:pt x="182" y="836"/>
                      </a:lnTo>
                      <a:lnTo>
                        <a:pt x="167" y="835"/>
                      </a:lnTo>
                      <a:lnTo>
                        <a:pt x="159" y="818"/>
                      </a:lnTo>
                      <a:lnTo>
                        <a:pt x="149" y="809"/>
                      </a:lnTo>
                      <a:lnTo>
                        <a:pt x="132" y="827"/>
                      </a:lnTo>
                      <a:lnTo>
                        <a:pt x="121" y="804"/>
                      </a:lnTo>
                      <a:lnTo>
                        <a:pt x="119" y="772"/>
                      </a:lnTo>
                      <a:lnTo>
                        <a:pt x="78" y="708"/>
                      </a:lnTo>
                      <a:lnTo>
                        <a:pt x="56" y="710"/>
                      </a:lnTo>
                      <a:lnTo>
                        <a:pt x="47" y="690"/>
                      </a:lnTo>
                      <a:lnTo>
                        <a:pt x="22" y="572"/>
                      </a:lnTo>
                      <a:lnTo>
                        <a:pt x="4" y="567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51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314440" y="4876920"/>
                  <a:ext cx="1019160" cy="1458720"/>
                </a:xfrm>
                <a:custGeom>
                  <a:avLst/>
                  <a:gdLst/>
                  <a:ahLst/>
                  <a:rect l="l" t="t" r="r" b="b"/>
                  <a:pathLst>
                    <a:path w="642" h="919">
                      <a:moveTo>
                        <a:pt x="417" y="853"/>
                      </a:moveTo>
                      <a:lnTo>
                        <a:pt x="387" y="802"/>
                      </a:lnTo>
                      <a:lnTo>
                        <a:pt x="379" y="775"/>
                      </a:lnTo>
                      <a:lnTo>
                        <a:pt x="348" y="879"/>
                      </a:lnTo>
                      <a:lnTo>
                        <a:pt x="317" y="890"/>
                      </a:lnTo>
                      <a:lnTo>
                        <a:pt x="268" y="892"/>
                      </a:lnTo>
                      <a:lnTo>
                        <a:pt x="247" y="918"/>
                      </a:lnTo>
                      <a:lnTo>
                        <a:pt x="185" y="896"/>
                      </a:lnTo>
                      <a:lnTo>
                        <a:pt x="182" y="822"/>
                      </a:lnTo>
                      <a:lnTo>
                        <a:pt x="168" y="819"/>
                      </a:lnTo>
                      <a:lnTo>
                        <a:pt x="165" y="843"/>
                      </a:lnTo>
                      <a:lnTo>
                        <a:pt x="152" y="829"/>
                      </a:lnTo>
                      <a:lnTo>
                        <a:pt x="131" y="818"/>
                      </a:lnTo>
                      <a:lnTo>
                        <a:pt x="116" y="861"/>
                      </a:lnTo>
                      <a:lnTo>
                        <a:pt x="74" y="798"/>
                      </a:lnTo>
                      <a:lnTo>
                        <a:pt x="51" y="788"/>
                      </a:lnTo>
                      <a:lnTo>
                        <a:pt x="39" y="747"/>
                      </a:lnTo>
                      <a:lnTo>
                        <a:pt x="48" y="707"/>
                      </a:lnTo>
                      <a:lnTo>
                        <a:pt x="31" y="729"/>
                      </a:lnTo>
                      <a:lnTo>
                        <a:pt x="12" y="721"/>
                      </a:lnTo>
                      <a:lnTo>
                        <a:pt x="12" y="687"/>
                      </a:lnTo>
                      <a:lnTo>
                        <a:pt x="0" y="534"/>
                      </a:lnTo>
                      <a:lnTo>
                        <a:pt x="10" y="497"/>
                      </a:lnTo>
                      <a:lnTo>
                        <a:pt x="9" y="463"/>
                      </a:lnTo>
                      <a:lnTo>
                        <a:pt x="23" y="444"/>
                      </a:lnTo>
                      <a:lnTo>
                        <a:pt x="14" y="398"/>
                      </a:lnTo>
                      <a:lnTo>
                        <a:pt x="36" y="317"/>
                      </a:lnTo>
                      <a:lnTo>
                        <a:pt x="51" y="302"/>
                      </a:lnTo>
                      <a:lnTo>
                        <a:pt x="64" y="308"/>
                      </a:lnTo>
                      <a:lnTo>
                        <a:pt x="74" y="280"/>
                      </a:lnTo>
                      <a:lnTo>
                        <a:pt x="75" y="257"/>
                      </a:lnTo>
                      <a:lnTo>
                        <a:pt x="83" y="232"/>
                      </a:lnTo>
                      <a:lnTo>
                        <a:pt x="59" y="220"/>
                      </a:lnTo>
                      <a:lnTo>
                        <a:pt x="64" y="192"/>
                      </a:lnTo>
                      <a:lnTo>
                        <a:pt x="81" y="185"/>
                      </a:lnTo>
                      <a:lnTo>
                        <a:pt x="152" y="165"/>
                      </a:lnTo>
                      <a:lnTo>
                        <a:pt x="191" y="131"/>
                      </a:lnTo>
                      <a:lnTo>
                        <a:pt x="231" y="113"/>
                      </a:lnTo>
                      <a:lnTo>
                        <a:pt x="230" y="83"/>
                      </a:lnTo>
                      <a:lnTo>
                        <a:pt x="278" y="57"/>
                      </a:lnTo>
                      <a:lnTo>
                        <a:pt x="306" y="55"/>
                      </a:lnTo>
                      <a:lnTo>
                        <a:pt x="346" y="74"/>
                      </a:lnTo>
                      <a:lnTo>
                        <a:pt x="348" y="51"/>
                      </a:lnTo>
                      <a:lnTo>
                        <a:pt x="381" y="23"/>
                      </a:lnTo>
                      <a:lnTo>
                        <a:pt x="394" y="22"/>
                      </a:lnTo>
                      <a:lnTo>
                        <a:pt x="411" y="0"/>
                      </a:lnTo>
                      <a:lnTo>
                        <a:pt x="472" y="29"/>
                      </a:lnTo>
                      <a:lnTo>
                        <a:pt x="492" y="31"/>
                      </a:lnTo>
                      <a:lnTo>
                        <a:pt x="530" y="105"/>
                      </a:lnTo>
                      <a:lnTo>
                        <a:pt x="561" y="100"/>
                      </a:lnTo>
                      <a:lnTo>
                        <a:pt x="606" y="229"/>
                      </a:lnTo>
                      <a:lnTo>
                        <a:pt x="628" y="297"/>
                      </a:lnTo>
                      <a:lnTo>
                        <a:pt x="617" y="341"/>
                      </a:lnTo>
                      <a:lnTo>
                        <a:pt x="641" y="398"/>
                      </a:lnTo>
                      <a:lnTo>
                        <a:pt x="633" y="420"/>
                      </a:lnTo>
                      <a:lnTo>
                        <a:pt x="636" y="478"/>
                      </a:lnTo>
                      <a:lnTo>
                        <a:pt x="611" y="529"/>
                      </a:lnTo>
                      <a:lnTo>
                        <a:pt x="600" y="586"/>
                      </a:lnTo>
                      <a:lnTo>
                        <a:pt x="597" y="615"/>
                      </a:lnTo>
                      <a:lnTo>
                        <a:pt x="569" y="643"/>
                      </a:lnTo>
                      <a:lnTo>
                        <a:pt x="602" y="667"/>
                      </a:lnTo>
                      <a:lnTo>
                        <a:pt x="617" y="733"/>
                      </a:lnTo>
                      <a:lnTo>
                        <a:pt x="600" y="739"/>
                      </a:lnTo>
                      <a:lnTo>
                        <a:pt x="567" y="739"/>
                      </a:lnTo>
                      <a:lnTo>
                        <a:pt x="541" y="768"/>
                      </a:lnTo>
                      <a:lnTo>
                        <a:pt x="541" y="801"/>
                      </a:lnTo>
                      <a:lnTo>
                        <a:pt x="551" y="824"/>
                      </a:lnTo>
                      <a:lnTo>
                        <a:pt x="547" y="849"/>
                      </a:lnTo>
                      <a:lnTo>
                        <a:pt x="536" y="867"/>
                      </a:lnTo>
                      <a:lnTo>
                        <a:pt x="519" y="866"/>
                      </a:lnTo>
                      <a:lnTo>
                        <a:pt x="499" y="844"/>
                      </a:lnTo>
                      <a:lnTo>
                        <a:pt x="480" y="835"/>
                      </a:lnTo>
                      <a:lnTo>
                        <a:pt x="451" y="849"/>
                      </a:lnTo>
                      <a:lnTo>
                        <a:pt x="417" y="853"/>
                      </a:lnTo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646360" y="5726160"/>
                  <a:ext cx="426960" cy="981000"/>
                </a:xfrm>
                <a:custGeom>
                  <a:avLst/>
                  <a:gdLst/>
                  <a:ahLst/>
                  <a:rect l="l" t="t" r="r" b="b"/>
                  <a:pathLst>
                    <a:path w="269" h="618">
                      <a:moveTo>
                        <a:pt x="126" y="616"/>
                      </a:moveTo>
                      <a:lnTo>
                        <a:pt x="146" y="617"/>
                      </a:lnTo>
                      <a:lnTo>
                        <a:pt x="159" y="617"/>
                      </a:lnTo>
                      <a:lnTo>
                        <a:pt x="157" y="589"/>
                      </a:lnTo>
                      <a:lnTo>
                        <a:pt x="153" y="525"/>
                      </a:lnTo>
                      <a:lnTo>
                        <a:pt x="155" y="457"/>
                      </a:lnTo>
                      <a:lnTo>
                        <a:pt x="146" y="394"/>
                      </a:lnTo>
                      <a:lnTo>
                        <a:pt x="160" y="320"/>
                      </a:lnTo>
                      <a:lnTo>
                        <a:pt x="187" y="266"/>
                      </a:lnTo>
                      <a:lnTo>
                        <a:pt x="217" y="228"/>
                      </a:lnTo>
                      <a:lnTo>
                        <a:pt x="250" y="172"/>
                      </a:lnTo>
                      <a:lnTo>
                        <a:pt x="268" y="145"/>
                      </a:lnTo>
                      <a:lnTo>
                        <a:pt x="250" y="145"/>
                      </a:lnTo>
                      <a:lnTo>
                        <a:pt x="226" y="186"/>
                      </a:lnTo>
                      <a:lnTo>
                        <a:pt x="199" y="229"/>
                      </a:lnTo>
                      <a:lnTo>
                        <a:pt x="177" y="263"/>
                      </a:lnTo>
                      <a:lnTo>
                        <a:pt x="159" y="306"/>
                      </a:lnTo>
                      <a:lnTo>
                        <a:pt x="170" y="248"/>
                      </a:lnTo>
                      <a:lnTo>
                        <a:pt x="173" y="181"/>
                      </a:lnTo>
                      <a:lnTo>
                        <a:pt x="195" y="137"/>
                      </a:lnTo>
                      <a:lnTo>
                        <a:pt x="223" y="92"/>
                      </a:lnTo>
                      <a:lnTo>
                        <a:pt x="209" y="96"/>
                      </a:lnTo>
                      <a:lnTo>
                        <a:pt x="164" y="181"/>
                      </a:lnTo>
                      <a:lnTo>
                        <a:pt x="155" y="272"/>
                      </a:lnTo>
                      <a:lnTo>
                        <a:pt x="133" y="196"/>
                      </a:lnTo>
                      <a:lnTo>
                        <a:pt x="104" y="0"/>
                      </a:lnTo>
                      <a:lnTo>
                        <a:pt x="115" y="129"/>
                      </a:lnTo>
                      <a:lnTo>
                        <a:pt x="143" y="285"/>
                      </a:lnTo>
                      <a:lnTo>
                        <a:pt x="136" y="365"/>
                      </a:lnTo>
                      <a:lnTo>
                        <a:pt x="118" y="300"/>
                      </a:lnTo>
                      <a:lnTo>
                        <a:pt x="87" y="211"/>
                      </a:lnTo>
                      <a:lnTo>
                        <a:pt x="13" y="112"/>
                      </a:lnTo>
                      <a:lnTo>
                        <a:pt x="0" y="109"/>
                      </a:lnTo>
                      <a:lnTo>
                        <a:pt x="83" y="232"/>
                      </a:lnTo>
                      <a:lnTo>
                        <a:pt x="115" y="359"/>
                      </a:lnTo>
                      <a:lnTo>
                        <a:pt x="122" y="450"/>
                      </a:lnTo>
                      <a:lnTo>
                        <a:pt x="120" y="586"/>
                      </a:lnTo>
                      <a:lnTo>
                        <a:pt x="126" y="616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281400" y="5762520"/>
                  <a:ext cx="322200" cy="865440"/>
                </a:xfrm>
                <a:custGeom>
                  <a:avLst/>
                  <a:gdLst/>
                  <a:ahLst/>
                  <a:rect l="l" t="t" r="r" b="b"/>
                  <a:pathLst>
                    <a:path w="203" h="545">
                      <a:moveTo>
                        <a:pt x="49" y="542"/>
                      </a:moveTo>
                      <a:lnTo>
                        <a:pt x="79" y="544"/>
                      </a:lnTo>
                      <a:lnTo>
                        <a:pt x="74" y="408"/>
                      </a:lnTo>
                      <a:lnTo>
                        <a:pt x="80" y="285"/>
                      </a:lnTo>
                      <a:lnTo>
                        <a:pt x="98" y="232"/>
                      </a:lnTo>
                      <a:lnTo>
                        <a:pt x="142" y="134"/>
                      </a:lnTo>
                      <a:lnTo>
                        <a:pt x="202" y="82"/>
                      </a:lnTo>
                      <a:lnTo>
                        <a:pt x="183" y="79"/>
                      </a:lnTo>
                      <a:lnTo>
                        <a:pt x="136" y="126"/>
                      </a:lnTo>
                      <a:lnTo>
                        <a:pt x="180" y="46"/>
                      </a:lnTo>
                      <a:lnTo>
                        <a:pt x="171" y="43"/>
                      </a:lnTo>
                      <a:lnTo>
                        <a:pt x="86" y="206"/>
                      </a:lnTo>
                      <a:lnTo>
                        <a:pt x="98" y="143"/>
                      </a:lnTo>
                      <a:lnTo>
                        <a:pt x="112" y="37"/>
                      </a:lnTo>
                      <a:lnTo>
                        <a:pt x="105" y="0"/>
                      </a:lnTo>
                      <a:lnTo>
                        <a:pt x="86" y="146"/>
                      </a:lnTo>
                      <a:lnTo>
                        <a:pt x="74" y="185"/>
                      </a:lnTo>
                      <a:lnTo>
                        <a:pt x="61" y="146"/>
                      </a:lnTo>
                      <a:lnTo>
                        <a:pt x="18" y="99"/>
                      </a:lnTo>
                      <a:lnTo>
                        <a:pt x="0" y="94"/>
                      </a:lnTo>
                      <a:lnTo>
                        <a:pt x="47" y="152"/>
                      </a:lnTo>
                      <a:lnTo>
                        <a:pt x="58" y="248"/>
                      </a:lnTo>
                      <a:lnTo>
                        <a:pt x="44" y="362"/>
                      </a:lnTo>
                      <a:lnTo>
                        <a:pt x="42" y="494"/>
                      </a:lnTo>
                      <a:lnTo>
                        <a:pt x="49" y="54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406680" y="3905280"/>
                <a:ext cx="2289240" cy="2884320"/>
                <a:chOff x="3406680" y="3905280"/>
                <a:chExt cx="2289240" cy="288432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3406680" y="3905280"/>
                  <a:ext cx="2289240" cy="2884320"/>
                  <a:chOff x="3406680" y="3905280"/>
                  <a:chExt cx="2289240" cy="28843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5064120" y="4305240"/>
                    <a:ext cx="174600" cy="593640"/>
                  </a:xfrm>
                  <a:prstGeom prst="rect">
                    <a:avLst/>
                  </a:prstGeom>
                  <a:solidFill>
                    <a:srgbClr val="fafd00"/>
                  </a:solidFill>
                  <a:ln w="3816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548160" y="5396040"/>
                    <a:ext cx="2006640" cy="1393560"/>
                  </a:xfrm>
                  <a:prstGeom prst="rect">
                    <a:avLst/>
                  </a:prstGeom>
                  <a:solidFill>
                    <a:srgbClr val="fafd00"/>
                  </a:solidFill>
                  <a:ln w="3816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406680" y="3905280"/>
                    <a:ext cx="2289240" cy="1566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afd00"/>
                  </a:solidFill>
                  <a:ln w="3816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>
                  <a:off x="4197240" y="6102360"/>
                  <a:ext cx="368280" cy="596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664080" y="5638680"/>
                  <a:ext cx="596880" cy="304920"/>
                  <a:chOff x="3664080" y="5638680"/>
                  <a:chExt cx="596880" cy="304920"/>
                </a:xfrm>
              </p:grpSpPr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3778200" y="5638680"/>
                    <a:ext cx="368280" cy="304920"/>
                    <a:chOff x="3778200" y="5638680"/>
                    <a:chExt cx="368280" cy="30492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778200" y="5645160"/>
                      <a:ext cx="368280" cy="291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962520" y="5638680"/>
                      <a:ext cx="0" cy="304920"/>
                    </a:xfrm>
                    <a:prstGeom prst="line">
                      <a:avLst/>
                    </a:prstGeom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3664080" y="5645160"/>
                    <a:ext cx="63360" cy="29196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197240" y="5645160"/>
                    <a:ext cx="63720" cy="29196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273560" y="4876920"/>
                  <a:ext cx="596880" cy="304560"/>
                  <a:chOff x="4273560" y="4876920"/>
                  <a:chExt cx="596880" cy="304560"/>
                </a:xfrm>
              </p:grpSpPr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4387680" y="4876920"/>
                    <a:ext cx="368640" cy="304560"/>
                    <a:chOff x="4387680" y="4876920"/>
                    <a:chExt cx="368640" cy="30456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4387680" y="4883040"/>
                      <a:ext cx="368640" cy="292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4572000" y="4876920"/>
                      <a:ext cx="0" cy="304560"/>
                    </a:xfrm>
                    <a:prstGeom prst="line">
                      <a:avLst/>
                    </a:prstGeom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8" name=""/>
                  <p:cNvSpPr/>
                  <p:nvPr/>
                </p:nvSpPr>
                <p:spPr>
                  <a:xfrm>
                    <a:off x="4807080" y="4883040"/>
                    <a:ext cx="63360" cy="29232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273560" y="4883040"/>
                    <a:ext cx="63360" cy="29232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4883040" y="5638680"/>
                  <a:ext cx="596880" cy="304920"/>
                  <a:chOff x="4883040" y="5638680"/>
                  <a:chExt cx="596880" cy="304920"/>
                </a:xfrm>
              </p:grpSpPr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4997520" y="5638680"/>
                    <a:ext cx="368280" cy="304920"/>
                    <a:chOff x="4997520" y="5638680"/>
                    <a:chExt cx="368280" cy="30492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4997520" y="5645160"/>
                      <a:ext cx="368280" cy="291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181480" y="5638680"/>
                      <a:ext cx="0" cy="304920"/>
                    </a:xfrm>
                    <a:prstGeom prst="line">
                      <a:avLst/>
                    </a:prstGeom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4" name=""/>
                  <p:cNvSpPr/>
                  <p:nvPr/>
                </p:nvSpPr>
                <p:spPr>
                  <a:xfrm>
                    <a:off x="5416560" y="5645160"/>
                    <a:ext cx="63360" cy="29196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883040" y="5645160"/>
                    <a:ext cx="63720" cy="29196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6" name=""/>
                <p:cNvSpPr/>
                <p:nvPr/>
              </p:nvSpPr>
              <p:spPr>
                <a:xfrm>
                  <a:off x="4578480" y="6102360"/>
                  <a:ext cx="368280" cy="596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425840" y="6407280"/>
                  <a:ext cx="63720" cy="6336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654440" y="6407280"/>
                  <a:ext cx="63720" cy="6336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191200" y="6405480"/>
                <a:ext cx="1287360" cy="399960"/>
                <a:chOff x="5191200" y="6405480"/>
                <a:chExt cx="1287360" cy="3999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230800" y="6405480"/>
                  <a:ext cx="1247760" cy="365040"/>
                </a:xfrm>
                <a:custGeom>
                  <a:avLst/>
                  <a:gdLst/>
                  <a:ahLst/>
                  <a:rect l="l" t="t" r="r" b="b"/>
                  <a:pathLst>
                    <a:path w="786" h="230">
                      <a:moveTo>
                        <a:pt x="16" y="12"/>
                      </a:moveTo>
                      <a:lnTo>
                        <a:pt x="50" y="3"/>
                      </a:lnTo>
                      <a:lnTo>
                        <a:pt x="87" y="0"/>
                      </a:lnTo>
                      <a:lnTo>
                        <a:pt x="120" y="6"/>
                      </a:lnTo>
                      <a:lnTo>
                        <a:pt x="153" y="14"/>
                      </a:lnTo>
                      <a:lnTo>
                        <a:pt x="186" y="23"/>
                      </a:lnTo>
                      <a:lnTo>
                        <a:pt x="217" y="19"/>
                      </a:lnTo>
                      <a:lnTo>
                        <a:pt x="251" y="23"/>
                      </a:lnTo>
                      <a:lnTo>
                        <a:pt x="282" y="30"/>
                      </a:lnTo>
                      <a:lnTo>
                        <a:pt x="300" y="43"/>
                      </a:lnTo>
                      <a:lnTo>
                        <a:pt x="304" y="58"/>
                      </a:lnTo>
                      <a:lnTo>
                        <a:pt x="307" y="68"/>
                      </a:lnTo>
                      <a:lnTo>
                        <a:pt x="333" y="58"/>
                      </a:lnTo>
                      <a:lnTo>
                        <a:pt x="353" y="52"/>
                      </a:lnTo>
                      <a:lnTo>
                        <a:pt x="372" y="51"/>
                      </a:lnTo>
                      <a:lnTo>
                        <a:pt x="403" y="58"/>
                      </a:lnTo>
                      <a:lnTo>
                        <a:pt x="429" y="69"/>
                      </a:lnTo>
                      <a:lnTo>
                        <a:pt x="434" y="84"/>
                      </a:lnTo>
                      <a:lnTo>
                        <a:pt x="438" y="88"/>
                      </a:lnTo>
                      <a:lnTo>
                        <a:pt x="453" y="79"/>
                      </a:lnTo>
                      <a:lnTo>
                        <a:pt x="471" y="76"/>
                      </a:lnTo>
                      <a:lnTo>
                        <a:pt x="499" y="79"/>
                      </a:lnTo>
                      <a:lnTo>
                        <a:pt x="521" y="87"/>
                      </a:lnTo>
                      <a:lnTo>
                        <a:pt x="544" y="93"/>
                      </a:lnTo>
                      <a:lnTo>
                        <a:pt x="559" y="106"/>
                      </a:lnTo>
                      <a:lnTo>
                        <a:pt x="564" y="92"/>
                      </a:lnTo>
                      <a:lnTo>
                        <a:pt x="570" y="79"/>
                      </a:lnTo>
                      <a:lnTo>
                        <a:pt x="589" y="72"/>
                      </a:lnTo>
                      <a:lnTo>
                        <a:pt x="612" y="76"/>
                      </a:lnTo>
                      <a:lnTo>
                        <a:pt x="620" y="73"/>
                      </a:lnTo>
                      <a:lnTo>
                        <a:pt x="637" y="71"/>
                      </a:lnTo>
                      <a:lnTo>
                        <a:pt x="665" y="78"/>
                      </a:lnTo>
                      <a:lnTo>
                        <a:pt x="680" y="90"/>
                      </a:lnTo>
                      <a:lnTo>
                        <a:pt x="699" y="99"/>
                      </a:lnTo>
                      <a:lnTo>
                        <a:pt x="716" y="114"/>
                      </a:lnTo>
                      <a:lnTo>
                        <a:pt x="755" y="136"/>
                      </a:lnTo>
                      <a:lnTo>
                        <a:pt x="778" y="161"/>
                      </a:lnTo>
                      <a:lnTo>
                        <a:pt x="785" y="183"/>
                      </a:lnTo>
                      <a:lnTo>
                        <a:pt x="785" y="199"/>
                      </a:lnTo>
                      <a:lnTo>
                        <a:pt x="775" y="216"/>
                      </a:lnTo>
                      <a:lnTo>
                        <a:pt x="745" y="229"/>
                      </a:lnTo>
                      <a:lnTo>
                        <a:pt x="691" y="224"/>
                      </a:lnTo>
                      <a:lnTo>
                        <a:pt x="633" y="218"/>
                      </a:lnTo>
                      <a:lnTo>
                        <a:pt x="571" y="221"/>
                      </a:lnTo>
                      <a:lnTo>
                        <a:pt x="496" y="224"/>
                      </a:lnTo>
                      <a:lnTo>
                        <a:pt x="421" y="221"/>
                      </a:lnTo>
                      <a:lnTo>
                        <a:pt x="341" y="216"/>
                      </a:lnTo>
                      <a:lnTo>
                        <a:pt x="288" y="214"/>
                      </a:lnTo>
                      <a:lnTo>
                        <a:pt x="212" y="216"/>
                      </a:lnTo>
                      <a:lnTo>
                        <a:pt x="165" y="218"/>
                      </a:lnTo>
                      <a:lnTo>
                        <a:pt x="94" y="220"/>
                      </a:lnTo>
                      <a:lnTo>
                        <a:pt x="58" y="217"/>
                      </a:lnTo>
                      <a:lnTo>
                        <a:pt x="32" y="211"/>
                      </a:lnTo>
                      <a:lnTo>
                        <a:pt x="12" y="202"/>
                      </a:lnTo>
                      <a:lnTo>
                        <a:pt x="19" y="180"/>
                      </a:lnTo>
                      <a:lnTo>
                        <a:pt x="35" y="161"/>
                      </a:lnTo>
                      <a:lnTo>
                        <a:pt x="32" y="137"/>
                      </a:lnTo>
                      <a:lnTo>
                        <a:pt x="25" y="123"/>
                      </a:lnTo>
                      <a:lnTo>
                        <a:pt x="12" y="99"/>
                      </a:lnTo>
                      <a:lnTo>
                        <a:pt x="4" y="73"/>
                      </a:lnTo>
                      <a:lnTo>
                        <a:pt x="0" y="46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191200" y="6415200"/>
                  <a:ext cx="1249200" cy="363600"/>
                </a:xfrm>
                <a:custGeom>
                  <a:avLst/>
                  <a:gdLst/>
                  <a:ahLst/>
                  <a:rect l="l" t="t" r="r" b="b"/>
                  <a:pathLst>
                    <a:path w="787" h="229">
                      <a:moveTo>
                        <a:pt x="16" y="11"/>
                      </a:moveTo>
                      <a:lnTo>
                        <a:pt x="50" y="3"/>
                      </a:lnTo>
                      <a:lnTo>
                        <a:pt x="87" y="0"/>
                      </a:lnTo>
                      <a:lnTo>
                        <a:pt x="119" y="6"/>
                      </a:lnTo>
                      <a:lnTo>
                        <a:pt x="155" y="14"/>
                      </a:lnTo>
                      <a:lnTo>
                        <a:pt x="186" y="22"/>
                      </a:lnTo>
                      <a:lnTo>
                        <a:pt x="217" y="19"/>
                      </a:lnTo>
                      <a:lnTo>
                        <a:pt x="251" y="22"/>
                      </a:lnTo>
                      <a:lnTo>
                        <a:pt x="282" y="30"/>
                      </a:lnTo>
                      <a:lnTo>
                        <a:pt x="299" y="41"/>
                      </a:lnTo>
                      <a:lnTo>
                        <a:pt x="304" y="57"/>
                      </a:lnTo>
                      <a:lnTo>
                        <a:pt x="307" y="68"/>
                      </a:lnTo>
                      <a:lnTo>
                        <a:pt x="333" y="57"/>
                      </a:lnTo>
                      <a:lnTo>
                        <a:pt x="352" y="52"/>
                      </a:lnTo>
                      <a:lnTo>
                        <a:pt x="372" y="51"/>
                      </a:lnTo>
                      <a:lnTo>
                        <a:pt x="403" y="57"/>
                      </a:lnTo>
                      <a:lnTo>
                        <a:pt x="429" y="69"/>
                      </a:lnTo>
                      <a:lnTo>
                        <a:pt x="434" y="84"/>
                      </a:lnTo>
                      <a:lnTo>
                        <a:pt x="438" y="87"/>
                      </a:lnTo>
                      <a:lnTo>
                        <a:pt x="453" y="79"/>
                      </a:lnTo>
                      <a:lnTo>
                        <a:pt x="470" y="76"/>
                      </a:lnTo>
                      <a:lnTo>
                        <a:pt x="498" y="79"/>
                      </a:lnTo>
                      <a:lnTo>
                        <a:pt x="521" y="86"/>
                      </a:lnTo>
                      <a:lnTo>
                        <a:pt x="544" y="93"/>
                      </a:lnTo>
                      <a:lnTo>
                        <a:pt x="559" y="106"/>
                      </a:lnTo>
                      <a:lnTo>
                        <a:pt x="563" y="92"/>
                      </a:lnTo>
                      <a:lnTo>
                        <a:pt x="569" y="79"/>
                      </a:lnTo>
                      <a:lnTo>
                        <a:pt x="588" y="71"/>
                      </a:lnTo>
                      <a:lnTo>
                        <a:pt x="612" y="76"/>
                      </a:lnTo>
                      <a:lnTo>
                        <a:pt x="619" y="72"/>
                      </a:lnTo>
                      <a:lnTo>
                        <a:pt x="639" y="70"/>
                      </a:lnTo>
                      <a:lnTo>
                        <a:pt x="665" y="78"/>
                      </a:lnTo>
                      <a:lnTo>
                        <a:pt x="680" y="89"/>
                      </a:lnTo>
                      <a:lnTo>
                        <a:pt x="699" y="99"/>
                      </a:lnTo>
                      <a:lnTo>
                        <a:pt x="715" y="114"/>
                      </a:lnTo>
                      <a:lnTo>
                        <a:pt x="755" y="135"/>
                      </a:lnTo>
                      <a:lnTo>
                        <a:pt x="779" y="161"/>
                      </a:lnTo>
                      <a:lnTo>
                        <a:pt x="786" y="182"/>
                      </a:lnTo>
                      <a:lnTo>
                        <a:pt x="786" y="198"/>
                      </a:lnTo>
                      <a:lnTo>
                        <a:pt x="776" y="215"/>
                      </a:lnTo>
                      <a:lnTo>
                        <a:pt x="745" y="228"/>
                      </a:lnTo>
                      <a:lnTo>
                        <a:pt x="690" y="224"/>
                      </a:lnTo>
                      <a:lnTo>
                        <a:pt x="633" y="218"/>
                      </a:lnTo>
                      <a:lnTo>
                        <a:pt x="571" y="221"/>
                      </a:lnTo>
                      <a:lnTo>
                        <a:pt x="495" y="224"/>
                      </a:lnTo>
                      <a:lnTo>
                        <a:pt x="420" y="221"/>
                      </a:lnTo>
                      <a:lnTo>
                        <a:pt x="341" y="215"/>
                      </a:lnTo>
                      <a:lnTo>
                        <a:pt x="288" y="213"/>
                      </a:lnTo>
                      <a:lnTo>
                        <a:pt x="212" y="215"/>
                      </a:lnTo>
                      <a:lnTo>
                        <a:pt x="165" y="218"/>
                      </a:lnTo>
                      <a:lnTo>
                        <a:pt x="94" y="220"/>
                      </a:lnTo>
                      <a:lnTo>
                        <a:pt x="58" y="217"/>
                      </a:lnTo>
                      <a:lnTo>
                        <a:pt x="32" y="211"/>
                      </a:lnTo>
                      <a:lnTo>
                        <a:pt x="12" y="202"/>
                      </a:lnTo>
                      <a:lnTo>
                        <a:pt x="19" y="180"/>
                      </a:lnTo>
                      <a:lnTo>
                        <a:pt x="35" y="161"/>
                      </a:lnTo>
                      <a:lnTo>
                        <a:pt x="34" y="136"/>
                      </a:lnTo>
                      <a:lnTo>
                        <a:pt x="25" y="122"/>
                      </a:lnTo>
                      <a:lnTo>
                        <a:pt x="12" y="99"/>
                      </a:lnTo>
                      <a:lnTo>
                        <a:pt x="4" y="72"/>
                      </a:lnTo>
                      <a:lnTo>
                        <a:pt x="0" y="46"/>
                      </a:lnTo>
                      <a:lnTo>
                        <a:pt x="16" y="11"/>
                      </a:lnTo>
                    </a:path>
                  </a:pathLst>
                </a:custGeom>
                <a:solidFill>
                  <a:srgbClr val="6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702400" y="6521400"/>
                  <a:ext cx="657000" cy="284040"/>
                </a:xfrm>
                <a:custGeom>
                  <a:avLst/>
                  <a:gdLst/>
                  <a:ahLst/>
                  <a:rect l="l" t="t" r="r" b="b"/>
                  <a:pathLst>
                    <a:path w="414" h="179">
                      <a:moveTo>
                        <a:pt x="9" y="9"/>
                      </a:moveTo>
                      <a:lnTo>
                        <a:pt x="26" y="2"/>
                      </a:lnTo>
                      <a:lnTo>
                        <a:pt x="45" y="0"/>
                      </a:lnTo>
                      <a:lnTo>
                        <a:pt x="63" y="4"/>
                      </a:lnTo>
                      <a:lnTo>
                        <a:pt x="81" y="11"/>
                      </a:lnTo>
                      <a:lnTo>
                        <a:pt x="97" y="17"/>
                      </a:lnTo>
                      <a:lnTo>
                        <a:pt x="113" y="14"/>
                      </a:lnTo>
                      <a:lnTo>
                        <a:pt x="131" y="17"/>
                      </a:lnTo>
                      <a:lnTo>
                        <a:pt x="148" y="23"/>
                      </a:lnTo>
                      <a:lnTo>
                        <a:pt x="157" y="33"/>
                      </a:lnTo>
                      <a:lnTo>
                        <a:pt x="160" y="45"/>
                      </a:lnTo>
                      <a:lnTo>
                        <a:pt x="161" y="53"/>
                      </a:lnTo>
                      <a:lnTo>
                        <a:pt x="175" y="45"/>
                      </a:lnTo>
                      <a:lnTo>
                        <a:pt x="186" y="41"/>
                      </a:lnTo>
                      <a:lnTo>
                        <a:pt x="195" y="40"/>
                      </a:lnTo>
                      <a:lnTo>
                        <a:pt x="212" y="45"/>
                      </a:lnTo>
                      <a:lnTo>
                        <a:pt x="225" y="54"/>
                      </a:lnTo>
                      <a:lnTo>
                        <a:pt x="228" y="66"/>
                      </a:lnTo>
                      <a:lnTo>
                        <a:pt x="230" y="69"/>
                      </a:lnTo>
                      <a:lnTo>
                        <a:pt x="238" y="62"/>
                      </a:lnTo>
                      <a:lnTo>
                        <a:pt x="247" y="60"/>
                      </a:lnTo>
                      <a:lnTo>
                        <a:pt x="262" y="62"/>
                      </a:lnTo>
                      <a:lnTo>
                        <a:pt x="273" y="68"/>
                      </a:lnTo>
                      <a:lnTo>
                        <a:pt x="286" y="73"/>
                      </a:lnTo>
                      <a:lnTo>
                        <a:pt x="294" y="83"/>
                      </a:lnTo>
                      <a:lnTo>
                        <a:pt x="295" y="72"/>
                      </a:lnTo>
                      <a:lnTo>
                        <a:pt x="300" y="62"/>
                      </a:lnTo>
                      <a:lnTo>
                        <a:pt x="310" y="56"/>
                      </a:lnTo>
                      <a:lnTo>
                        <a:pt x="321" y="60"/>
                      </a:lnTo>
                      <a:lnTo>
                        <a:pt x="326" y="57"/>
                      </a:lnTo>
                      <a:lnTo>
                        <a:pt x="336" y="56"/>
                      </a:lnTo>
                      <a:lnTo>
                        <a:pt x="350" y="61"/>
                      </a:lnTo>
                      <a:lnTo>
                        <a:pt x="358" y="70"/>
                      </a:lnTo>
                      <a:lnTo>
                        <a:pt x="368" y="78"/>
                      </a:lnTo>
                      <a:lnTo>
                        <a:pt x="377" y="89"/>
                      </a:lnTo>
                      <a:lnTo>
                        <a:pt x="397" y="106"/>
                      </a:lnTo>
                      <a:lnTo>
                        <a:pt x="409" y="126"/>
                      </a:lnTo>
                      <a:lnTo>
                        <a:pt x="413" y="143"/>
                      </a:lnTo>
                      <a:lnTo>
                        <a:pt x="413" y="155"/>
                      </a:lnTo>
                      <a:lnTo>
                        <a:pt x="407" y="168"/>
                      </a:lnTo>
                      <a:lnTo>
                        <a:pt x="391" y="178"/>
                      </a:lnTo>
                      <a:lnTo>
                        <a:pt x="364" y="175"/>
                      </a:lnTo>
                      <a:lnTo>
                        <a:pt x="333" y="170"/>
                      </a:lnTo>
                      <a:lnTo>
                        <a:pt x="300" y="172"/>
                      </a:lnTo>
                      <a:lnTo>
                        <a:pt x="260" y="175"/>
                      </a:lnTo>
                      <a:lnTo>
                        <a:pt x="221" y="172"/>
                      </a:lnTo>
                      <a:lnTo>
                        <a:pt x="179" y="168"/>
                      </a:lnTo>
                      <a:lnTo>
                        <a:pt x="151" y="167"/>
                      </a:lnTo>
                      <a:lnTo>
                        <a:pt x="112" y="168"/>
                      </a:lnTo>
                      <a:lnTo>
                        <a:pt x="87" y="170"/>
                      </a:lnTo>
                      <a:lnTo>
                        <a:pt x="49" y="172"/>
                      </a:lnTo>
                      <a:lnTo>
                        <a:pt x="31" y="170"/>
                      </a:lnTo>
                      <a:lnTo>
                        <a:pt x="16" y="165"/>
                      </a:lnTo>
                      <a:lnTo>
                        <a:pt x="6" y="158"/>
                      </a:lnTo>
                      <a:lnTo>
                        <a:pt x="10" y="140"/>
                      </a:lnTo>
                      <a:lnTo>
                        <a:pt x="19" y="126"/>
                      </a:lnTo>
                      <a:lnTo>
                        <a:pt x="17" y="107"/>
                      </a:lnTo>
                      <a:lnTo>
                        <a:pt x="13" y="96"/>
                      </a:lnTo>
                      <a:lnTo>
                        <a:pt x="6" y="78"/>
                      </a:lnTo>
                      <a:lnTo>
                        <a:pt x="1" y="57"/>
                      </a:lnTo>
                      <a:lnTo>
                        <a:pt x="0" y="36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4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95960" y="6512040"/>
                  <a:ext cx="657000" cy="284040"/>
                </a:xfrm>
                <a:custGeom>
                  <a:avLst/>
                  <a:gdLst/>
                  <a:ahLst/>
                  <a:rect l="l" t="t" r="r" b="b"/>
                  <a:pathLst>
                    <a:path w="414" h="179">
                      <a:moveTo>
                        <a:pt x="404" y="9"/>
                      </a:moveTo>
                      <a:lnTo>
                        <a:pt x="387" y="2"/>
                      </a:lnTo>
                      <a:lnTo>
                        <a:pt x="368" y="0"/>
                      </a:lnTo>
                      <a:lnTo>
                        <a:pt x="350" y="4"/>
                      </a:lnTo>
                      <a:lnTo>
                        <a:pt x="332" y="10"/>
                      </a:lnTo>
                      <a:lnTo>
                        <a:pt x="316" y="17"/>
                      </a:lnTo>
                      <a:lnTo>
                        <a:pt x="300" y="14"/>
                      </a:lnTo>
                      <a:lnTo>
                        <a:pt x="281" y="17"/>
                      </a:lnTo>
                      <a:lnTo>
                        <a:pt x="265" y="23"/>
                      </a:lnTo>
                      <a:lnTo>
                        <a:pt x="256" y="33"/>
                      </a:lnTo>
                      <a:lnTo>
                        <a:pt x="254" y="45"/>
                      </a:lnTo>
                      <a:lnTo>
                        <a:pt x="253" y="53"/>
                      </a:lnTo>
                      <a:lnTo>
                        <a:pt x="237" y="45"/>
                      </a:lnTo>
                      <a:lnTo>
                        <a:pt x="228" y="41"/>
                      </a:lnTo>
                      <a:lnTo>
                        <a:pt x="218" y="40"/>
                      </a:lnTo>
                      <a:lnTo>
                        <a:pt x="202" y="45"/>
                      </a:lnTo>
                      <a:lnTo>
                        <a:pt x="188" y="54"/>
                      </a:lnTo>
                      <a:lnTo>
                        <a:pt x="185" y="66"/>
                      </a:lnTo>
                      <a:lnTo>
                        <a:pt x="183" y="69"/>
                      </a:lnTo>
                      <a:lnTo>
                        <a:pt x="176" y="62"/>
                      </a:lnTo>
                      <a:lnTo>
                        <a:pt x="166" y="59"/>
                      </a:lnTo>
                      <a:lnTo>
                        <a:pt x="151" y="62"/>
                      </a:lnTo>
                      <a:lnTo>
                        <a:pt x="138" y="68"/>
                      </a:lnTo>
                      <a:lnTo>
                        <a:pt x="127" y="73"/>
                      </a:lnTo>
                      <a:lnTo>
                        <a:pt x="119" y="83"/>
                      </a:lnTo>
                      <a:lnTo>
                        <a:pt x="116" y="73"/>
                      </a:lnTo>
                      <a:lnTo>
                        <a:pt x="113" y="62"/>
                      </a:lnTo>
                      <a:lnTo>
                        <a:pt x="105" y="56"/>
                      </a:lnTo>
                      <a:lnTo>
                        <a:pt x="92" y="59"/>
                      </a:lnTo>
                      <a:lnTo>
                        <a:pt x="89" y="57"/>
                      </a:lnTo>
                      <a:lnTo>
                        <a:pt x="79" y="56"/>
                      </a:lnTo>
                      <a:lnTo>
                        <a:pt x="64" y="61"/>
                      </a:lnTo>
                      <a:lnTo>
                        <a:pt x="57" y="70"/>
                      </a:lnTo>
                      <a:lnTo>
                        <a:pt x="45" y="77"/>
                      </a:lnTo>
                      <a:lnTo>
                        <a:pt x="38" y="89"/>
                      </a:lnTo>
                      <a:lnTo>
                        <a:pt x="17" y="105"/>
                      </a:lnTo>
                      <a:lnTo>
                        <a:pt x="4" y="125"/>
                      </a:lnTo>
                      <a:lnTo>
                        <a:pt x="0" y="142"/>
                      </a:lnTo>
                      <a:lnTo>
                        <a:pt x="0" y="155"/>
                      </a:lnTo>
                      <a:lnTo>
                        <a:pt x="6" y="167"/>
                      </a:lnTo>
                      <a:lnTo>
                        <a:pt x="22" y="178"/>
                      </a:lnTo>
                      <a:lnTo>
                        <a:pt x="49" y="175"/>
                      </a:lnTo>
                      <a:lnTo>
                        <a:pt x="81" y="170"/>
                      </a:lnTo>
                      <a:lnTo>
                        <a:pt x="112" y="172"/>
                      </a:lnTo>
                      <a:lnTo>
                        <a:pt x="153" y="175"/>
                      </a:lnTo>
                      <a:lnTo>
                        <a:pt x="192" y="172"/>
                      </a:lnTo>
                      <a:lnTo>
                        <a:pt x="234" y="167"/>
                      </a:lnTo>
                      <a:lnTo>
                        <a:pt x="262" y="167"/>
                      </a:lnTo>
                      <a:lnTo>
                        <a:pt x="302" y="167"/>
                      </a:lnTo>
                      <a:lnTo>
                        <a:pt x="327" y="170"/>
                      </a:lnTo>
                      <a:lnTo>
                        <a:pt x="364" y="171"/>
                      </a:lnTo>
                      <a:lnTo>
                        <a:pt x="382" y="169"/>
                      </a:lnTo>
                      <a:lnTo>
                        <a:pt x="397" y="165"/>
                      </a:lnTo>
                      <a:lnTo>
                        <a:pt x="407" y="158"/>
                      </a:lnTo>
                      <a:lnTo>
                        <a:pt x="403" y="140"/>
                      </a:lnTo>
                      <a:lnTo>
                        <a:pt x="396" y="125"/>
                      </a:lnTo>
                      <a:lnTo>
                        <a:pt x="397" y="106"/>
                      </a:lnTo>
                      <a:lnTo>
                        <a:pt x="400" y="96"/>
                      </a:lnTo>
                      <a:lnTo>
                        <a:pt x="407" y="77"/>
                      </a:lnTo>
                      <a:lnTo>
                        <a:pt x="412" y="57"/>
                      </a:lnTo>
                      <a:lnTo>
                        <a:pt x="413" y="36"/>
                      </a:lnTo>
                      <a:lnTo>
                        <a:pt x="404" y="9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2798640" y="6496200"/>
                <a:ext cx="1311480" cy="328320"/>
                <a:chOff x="2798640" y="6496200"/>
                <a:chExt cx="1311480" cy="3283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670200" y="6496200"/>
                  <a:ext cx="439920" cy="282600"/>
                </a:xfrm>
                <a:custGeom>
                  <a:avLst/>
                  <a:gdLst/>
                  <a:ahLst/>
                  <a:rect l="l" t="t" r="r" b="b"/>
                  <a:pathLst>
                    <a:path w="277" h="178">
                      <a:moveTo>
                        <a:pt x="6" y="8"/>
                      </a:moveTo>
                      <a:lnTo>
                        <a:pt x="17" y="2"/>
                      </a:lnTo>
                      <a:lnTo>
                        <a:pt x="30" y="0"/>
                      </a:lnTo>
                      <a:lnTo>
                        <a:pt x="41" y="3"/>
                      </a:lnTo>
                      <a:lnTo>
                        <a:pt x="53" y="10"/>
                      </a:lnTo>
                      <a:lnTo>
                        <a:pt x="65" y="17"/>
                      </a:lnTo>
                      <a:lnTo>
                        <a:pt x="76" y="14"/>
                      </a:lnTo>
                      <a:lnTo>
                        <a:pt x="87" y="17"/>
                      </a:lnTo>
                      <a:lnTo>
                        <a:pt x="99" y="22"/>
                      </a:lnTo>
                      <a:lnTo>
                        <a:pt x="104" y="33"/>
                      </a:lnTo>
                      <a:lnTo>
                        <a:pt x="106" y="45"/>
                      </a:lnTo>
                      <a:lnTo>
                        <a:pt x="107" y="52"/>
                      </a:lnTo>
                      <a:lnTo>
                        <a:pt x="118" y="45"/>
                      </a:lnTo>
                      <a:lnTo>
                        <a:pt x="123" y="40"/>
                      </a:lnTo>
                      <a:lnTo>
                        <a:pt x="130" y="39"/>
                      </a:lnTo>
                      <a:lnTo>
                        <a:pt x="141" y="45"/>
                      </a:lnTo>
                      <a:lnTo>
                        <a:pt x="150" y="53"/>
                      </a:lnTo>
                      <a:lnTo>
                        <a:pt x="152" y="65"/>
                      </a:lnTo>
                      <a:lnTo>
                        <a:pt x="154" y="68"/>
                      </a:lnTo>
                      <a:lnTo>
                        <a:pt x="158" y="62"/>
                      </a:lnTo>
                      <a:lnTo>
                        <a:pt x="165" y="59"/>
                      </a:lnTo>
                      <a:lnTo>
                        <a:pt x="175" y="62"/>
                      </a:lnTo>
                      <a:lnTo>
                        <a:pt x="183" y="67"/>
                      </a:lnTo>
                      <a:lnTo>
                        <a:pt x="191" y="72"/>
                      </a:lnTo>
                      <a:lnTo>
                        <a:pt x="196" y="82"/>
                      </a:lnTo>
                      <a:lnTo>
                        <a:pt x="197" y="72"/>
                      </a:lnTo>
                      <a:lnTo>
                        <a:pt x="199" y="62"/>
                      </a:lnTo>
                      <a:lnTo>
                        <a:pt x="206" y="55"/>
                      </a:lnTo>
                      <a:lnTo>
                        <a:pt x="214" y="59"/>
                      </a:lnTo>
                      <a:lnTo>
                        <a:pt x="217" y="56"/>
                      </a:lnTo>
                      <a:lnTo>
                        <a:pt x="224" y="55"/>
                      </a:lnTo>
                      <a:lnTo>
                        <a:pt x="233" y="61"/>
                      </a:lnTo>
                      <a:lnTo>
                        <a:pt x="238" y="69"/>
                      </a:lnTo>
                      <a:lnTo>
                        <a:pt x="245" y="77"/>
                      </a:lnTo>
                      <a:lnTo>
                        <a:pt x="251" y="88"/>
                      </a:lnTo>
                      <a:lnTo>
                        <a:pt x="264" y="105"/>
                      </a:lnTo>
                      <a:lnTo>
                        <a:pt x="273" y="125"/>
                      </a:lnTo>
                      <a:lnTo>
                        <a:pt x="276" y="142"/>
                      </a:lnTo>
                      <a:lnTo>
                        <a:pt x="276" y="155"/>
                      </a:lnTo>
                      <a:lnTo>
                        <a:pt x="272" y="167"/>
                      </a:lnTo>
                      <a:lnTo>
                        <a:pt x="261" y="177"/>
                      </a:lnTo>
                      <a:lnTo>
                        <a:pt x="243" y="175"/>
                      </a:lnTo>
                      <a:lnTo>
                        <a:pt x="222" y="170"/>
                      </a:lnTo>
                      <a:lnTo>
                        <a:pt x="200" y="172"/>
                      </a:lnTo>
                      <a:lnTo>
                        <a:pt x="174" y="175"/>
                      </a:lnTo>
                      <a:lnTo>
                        <a:pt x="148" y="172"/>
                      </a:lnTo>
                      <a:lnTo>
                        <a:pt x="119" y="167"/>
                      </a:lnTo>
                      <a:lnTo>
                        <a:pt x="101" y="166"/>
                      </a:lnTo>
                      <a:lnTo>
                        <a:pt x="74" y="167"/>
                      </a:lnTo>
                      <a:lnTo>
                        <a:pt x="57" y="170"/>
                      </a:lnTo>
                      <a:lnTo>
                        <a:pt x="33" y="171"/>
                      </a:lnTo>
                      <a:lnTo>
                        <a:pt x="20" y="169"/>
                      </a:lnTo>
                      <a:lnTo>
                        <a:pt x="11" y="164"/>
                      </a:lnTo>
                      <a:lnTo>
                        <a:pt x="4" y="158"/>
                      </a:lnTo>
                      <a:lnTo>
                        <a:pt x="6" y="140"/>
                      </a:lnTo>
                      <a:lnTo>
                        <a:pt x="12" y="125"/>
                      </a:lnTo>
                      <a:lnTo>
                        <a:pt x="11" y="106"/>
                      </a:lnTo>
                      <a:lnTo>
                        <a:pt x="8" y="96"/>
                      </a:lnTo>
                      <a:lnTo>
                        <a:pt x="4" y="77"/>
                      </a:lnTo>
                      <a:lnTo>
                        <a:pt x="1" y="56"/>
                      </a:lnTo>
                      <a:lnTo>
                        <a:pt x="0" y="35"/>
                      </a:lnTo>
                      <a:lnTo>
                        <a:pt x="6" y="8"/>
                      </a:lnTo>
                    </a:path>
                  </a:pathLst>
                </a:custGeom>
                <a:solidFill>
                  <a:srgbClr val="4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798640" y="6540480"/>
                  <a:ext cx="439920" cy="284040"/>
                </a:xfrm>
                <a:custGeom>
                  <a:avLst/>
                  <a:gdLst/>
                  <a:ahLst/>
                  <a:rect l="l" t="t" r="r" b="b"/>
                  <a:pathLst>
                    <a:path w="277" h="179">
                      <a:moveTo>
                        <a:pt x="270" y="8"/>
                      </a:moveTo>
                      <a:lnTo>
                        <a:pt x="259" y="2"/>
                      </a:lnTo>
                      <a:lnTo>
                        <a:pt x="246" y="0"/>
                      </a:lnTo>
                      <a:lnTo>
                        <a:pt x="235" y="4"/>
                      </a:lnTo>
                      <a:lnTo>
                        <a:pt x="222" y="10"/>
                      </a:lnTo>
                      <a:lnTo>
                        <a:pt x="211" y="17"/>
                      </a:lnTo>
                      <a:lnTo>
                        <a:pt x="200" y="14"/>
                      </a:lnTo>
                      <a:lnTo>
                        <a:pt x="189" y="17"/>
                      </a:lnTo>
                      <a:lnTo>
                        <a:pt x="177" y="22"/>
                      </a:lnTo>
                      <a:lnTo>
                        <a:pt x="172" y="33"/>
                      </a:lnTo>
                      <a:lnTo>
                        <a:pt x="170" y="45"/>
                      </a:lnTo>
                      <a:lnTo>
                        <a:pt x="169" y="53"/>
                      </a:lnTo>
                      <a:lnTo>
                        <a:pt x="158" y="45"/>
                      </a:lnTo>
                      <a:lnTo>
                        <a:pt x="153" y="40"/>
                      </a:lnTo>
                      <a:lnTo>
                        <a:pt x="146" y="39"/>
                      </a:lnTo>
                      <a:lnTo>
                        <a:pt x="135" y="45"/>
                      </a:lnTo>
                      <a:lnTo>
                        <a:pt x="126" y="54"/>
                      </a:lnTo>
                      <a:lnTo>
                        <a:pt x="124" y="66"/>
                      </a:lnTo>
                      <a:lnTo>
                        <a:pt x="122" y="69"/>
                      </a:lnTo>
                      <a:lnTo>
                        <a:pt x="118" y="62"/>
                      </a:lnTo>
                      <a:lnTo>
                        <a:pt x="111" y="59"/>
                      </a:lnTo>
                      <a:lnTo>
                        <a:pt x="101" y="62"/>
                      </a:lnTo>
                      <a:lnTo>
                        <a:pt x="93" y="68"/>
                      </a:lnTo>
                      <a:lnTo>
                        <a:pt x="85" y="72"/>
                      </a:lnTo>
                      <a:lnTo>
                        <a:pt x="80" y="83"/>
                      </a:lnTo>
                      <a:lnTo>
                        <a:pt x="79" y="72"/>
                      </a:lnTo>
                      <a:lnTo>
                        <a:pt x="77" y="62"/>
                      </a:lnTo>
                      <a:lnTo>
                        <a:pt x="70" y="56"/>
                      </a:lnTo>
                      <a:lnTo>
                        <a:pt x="62" y="59"/>
                      </a:lnTo>
                      <a:lnTo>
                        <a:pt x="59" y="56"/>
                      </a:lnTo>
                      <a:lnTo>
                        <a:pt x="52" y="55"/>
                      </a:lnTo>
                      <a:lnTo>
                        <a:pt x="43" y="61"/>
                      </a:lnTo>
                      <a:lnTo>
                        <a:pt x="38" y="70"/>
                      </a:lnTo>
                      <a:lnTo>
                        <a:pt x="31" y="77"/>
                      </a:lnTo>
                      <a:lnTo>
                        <a:pt x="25" y="88"/>
                      </a:lnTo>
                      <a:lnTo>
                        <a:pt x="12" y="105"/>
                      </a:lnTo>
                      <a:lnTo>
                        <a:pt x="3" y="125"/>
                      </a:lnTo>
                      <a:lnTo>
                        <a:pt x="0" y="142"/>
                      </a:lnTo>
                      <a:lnTo>
                        <a:pt x="0" y="155"/>
                      </a:lnTo>
                      <a:lnTo>
                        <a:pt x="4" y="167"/>
                      </a:lnTo>
                      <a:lnTo>
                        <a:pt x="15" y="178"/>
                      </a:lnTo>
                      <a:lnTo>
                        <a:pt x="33" y="175"/>
                      </a:lnTo>
                      <a:lnTo>
                        <a:pt x="54" y="170"/>
                      </a:lnTo>
                      <a:lnTo>
                        <a:pt x="76" y="172"/>
                      </a:lnTo>
                      <a:lnTo>
                        <a:pt x="102" y="175"/>
                      </a:lnTo>
                      <a:lnTo>
                        <a:pt x="128" y="172"/>
                      </a:lnTo>
                      <a:lnTo>
                        <a:pt x="157" y="167"/>
                      </a:lnTo>
                      <a:lnTo>
                        <a:pt x="175" y="166"/>
                      </a:lnTo>
                      <a:lnTo>
                        <a:pt x="202" y="167"/>
                      </a:lnTo>
                      <a:lnTo>
                        <a:pt x="219" y="170"/>
                      </a:lnTo>
                      <a:lnTo>
                        <a:pt x="243" y="171"/>
                      </a:lnTo>
                      <a:lnTo>
                        <a:pt x="256" y="169"/>
                      </a:lnTo>
                      <a:lnTo>
                        <a:pt x="265" y="164"/>
                      </a:lnTo>
                      <a:lnTo>
                        <a:pt x="272" y="158"/>
                      </a:lnTo>
                      <a:lnTo>
                        <a:pt x="270" y="140"/>
                      </a:lnTo>
                      <a:lnTo>
                        <a:pt x="264" y="125"/>
                      </a:lnTo>
                      <a:lnTo>
                        <a:pt x="265" y="106"/>
                      </a:lnTo>
                      <a:lnTo>
                        <a:pt x="268" y="96"/>
                      </a:lnTo>
                      <a:lnTo>
                        <a:pt x="272" y="77"/>
                      </a:lnTo>
                      <a:lnTo>
                        <a:pt x="275" y="56"/>
                      </a:lnTo>
                      <a:lnTo>
                        <a:pt x="276" y="36"/>
                      </a:lnTo>
                      <a:lnTo>
                        <a:pt x="270" y="8"/>
                      </a:lnTo>
                    </a:path>
                  </a:pathLst>
                </a:custGeom>
                <a:solidFill>
                  <a:srgbClr val="4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6640" y="6513480"/>
                  <a:ext cx="322200" cy="274680"/>
                </a:xfrm>
                <a:custGeom>
                  <a:avLst/>
                  <a:gdLst/>
                  <a:ahLst/>
                  <a:rect l="l" t="t" r="r" b="b"/>
                  <a:pathLst>
                    <a:path w="203" h="173">
                      <a:moveTo>
                        <a:pt x="198" y="8"/>
                      </a:moveTo>
                      <a:lnTo>
                        <a:pt x="189" y="2"/>
                      </a:lnTo>
                      <a:lnTo>
                        <a:pt x="180" y="0"/>
                      </a:lnTo>
                      <a:lnTo>
                        <a:pt x="172" y="4"/>
                      </a:lnTo>
                      <a:lnTo>
                        <a:pt x="163" y="10"/>
                      </a:lnTo>
                      <a:lnTo>
                        <a:pt x="155" y="16"/>
                      </a:lnTo>
                      <a:lnTo>
                        <a:pt x="146" y="14"/>
                      </a:lnTo>
                      <a:lnTo>
                        <a:pt x="138" y="16"/>
                      </a:lnTo>
                      <a:lnTo>
                        <a:pt x="130" y="22"/>
                      </a:lnTo>
                      <a:lnTo>
                        <a:pt x="125" y="32"/>
                      </a:lnTo>
                      <a:lnTo>
                        <a:pt x="124" y="44"/>
                      </a:lnTo>
                      <a:lnTo>
                        <a:pt x="123" y="51"/>
                      </a:lnTo>
                      <a:lnTo>
                        <a:pt x="116" y="44"/>
                      </a:lnTo>
                      <a:lnTo>
                        <a:pt x="112" y="39"/>
                      </a:lnTo>
                      <a:lnTo>
                        <a:pt x="107" y="38"/>
                      </a:lnTo>
                      <a:lnTo>
                        <a:pt x="99" y="44"/>
                      </a:lnTo>
                      <a:lnTo>
                        <a:pt x="92" y="52"/>
                      </a:lnTo>
                      <a:lnTo>
                        <a:pt x="90" y="64"/>
                      </a:lnTo>
                      <a:lnTo>
                        <a:pt x="89" y="66"/>
                      </a:lnTo>
                      <a:lnTo>
                        <a:pt x="86" y="60"/>
                      </a:lnTo>
                      <a:lnTo>
                        <a:pt x="81" y="57"/>
                      </a:lnTo>
                      <a:lnTo>
                        <a:pt x="74" y="60"/>
                      </a:lnTo>
                      <a:lnTo>
                        <a:pt x="67" y="66"/>
                      </a:lnTo>
                      <a:lnTo>
                        <a:pt x="62" y="70"/>
                      </a:lnTo>
                      <a:lnTo>
                        <a:pt x="59" y="80"/>
                      </a:lnTo>
                      <a:lnTo>
                        <a:pt x="57" y="70"/>
                      </a:lnTo>
                      <a:lnTo>
                        <a:pt x="56" y="60"/>
                      </a:lnTo>
                      <a:lnTo>
                        <a:pt x="51" y="54"/>
                      </a:lnTo>
                      <a:lnTo>
                        <a:pt x="45" y="57"/>
                      </a:lnTo>
                      <a:lnTo>
                        <a:pt x="43" y="55"/>
                      </a:lnTo>
                      <a:lnTo>
                        <a:pt x="38" y="54"/>
                      </a:lnTo>
                      <a:lnTo>
                        <a:pt x="31" y="59"/>
                      </a:lnTo>
                      <a:lnTo>
                        <a:pt x="28" y="67"/>
                      </a:lnTo>
                      <a:lnTo>
                        <a:pt x="22" y="75"/>
                      </a:lnTo>
                      <a:lnTo>
                        <a:pt x="18" y="86"/>
                      </a:lnTo>
                      <a:lnTo>
                        <a:pt x="8" y="102"/>
                      </a:lnTo>
                      <a:lnTo>
                        <a:pt x="2" y="121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3" y="162"/>
                      </a:lnTo>
                      <a:lnTo>
                        <a:pt x="11" y="172"/>
                      </a:lnTo>
                      <a:lnTo>
                        <a:pt x="24" y="169"/>
                      </a:lnTo>
                      <a:lnTo>
                        <a:pt x="39" y="165"/>
                      </a:lnTo>
                      <a:lnTo>
                        <a:pt x="55" y="167"/>
                      </a:lnTo>
                      <a:lnTo>
                        <a:pt x="74" y="169"/>
                      </a:lnTo>
                      <a:lnTo>
                        <a:pt x="94" y="167"/>
                      </a:lnTo>
                      <a:lnTo>
                        <a:pt x="114" y="162"/>
                      </a:lnTo>
                      <a:lnTo>
                        <a:pt x="128" y="161"/>
                      </a:lnTo>
                      <a:lnTo>
                        <a:pt x="148" y="162"/>
                      </a:lnTo>
                      <a:lnTo>
                        <a:pt x="160" y="165"/>
                      </a:lnTo>
                      <a:lnTo>
                        <a:pt x="178" y="166"/>
                      </a:lnTo>
                      <a:lnTo>
                        <a:pt x="188" y="164"/>
                      </a:lnTo>
                      <a:lnTo>
                        <a:pt x="194" y="159"/>
                      </a:lnTo>
                      <a:lnTo>
                        <a:pt x="199" y="153"/>
                      </a:lnTo>
                      <a:lnTo>
                        <a:pt x="197" y="136"/>
                      </a:lnTo>
                      <a:lnTo>
                        <a:pt x="193" y="121"/>
                      </a:lnTo>
                      <a:lnTo>
                        <a:pt x="194" y="103"/>
                      </a:lnTo>
                      <a:lnTo>
                        <a:pt x="196" y="93"/>
                      </a:lnTo>
                      <a:lnTo>
                        <a:pt x="199" y="75"/>
                      </a:lnTo>
                      <a:lnTo>
                        <a:pt x="201" y="55"/>
                      </a:lnTo>
                      <a:lnTo>
                        <a:pt x="202" y="35"/>
                      </a:lnTo>
                      <a:lnTo>
                        <a:pt x="198" y="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427560" y="6513480"/>
                  <a:ext cx="318960" cy="273240"/>
                </a:xfrm>
                <a:custGeom>
                  <a:avLst/>
                  <a:gdLst/>
                  <a:ahLst/>
                  <a:rect l="l" t="t" r="r" b="b"/>
                  <a:pathLst>
                    <a:path w="201" h="172">
                      <a:moveTo>
                        <a:pt x="4" y="8"/>
                      </a:moveTo>
                      <a:lnTo>
                        <a:pt x="13" y="1"/>
                      </a:lnTo>
                      <a:lnTo>
                        <a:pt x="22" y="0"/>
                      </a:lnTo>
                      <a:lnTo>
                        <a:pt x="30" y="3"/>
                      </a:lnTo>
                      <a:lnTo>
                        <a:pt x="39" y="9"/>
                      </a:lnTo>
                      <a:lnTo>
                        <a:pt x="47" y="16"/>
                      </a:lnTo>
                      <a:lnTo>
                        <a:pt x="56" y="13"/>
                      </a:lnTo>
                      <a:lnTo>
                        <a:pt x="64" y="16"/>
                      </a:lnTo>
                      <a:lnTo>
                        <a:pt x="73" y="22"/>
                      </a:lnTo>
                      <a:lnTo>
                        <a:pt x="76" y="31"/>
                      </a:lnTo>
                      <a:lnTo>
                        <a:pt x="77" y="43"/>
                      </a:lnTo>
                      <a:lnTo>
                        <a:pt x="78" y="51"/>
                      </a:lnTo>
                      <a:lnTo>
                        <a:pt x="86" y="43"/>
                      </a:lnTo>
                      <a:lnTo>
                        <a:pt x="91" y="38"/>
                      </a:lnTo>
                      <a:lnTo>
                        <a:pt x="95" y="38"/>
                      </a:lnTo>
                      <a:lnTo>
                        <a:pt x="104" y="43"/>
                      </a:lnTo>
                      <a:lnTo>
                        <a:pt x="110" y="52"/>
                      </a:lnTo>
                      <a:lnTo>
                        <a:pt x="111" y="63"/>
                      </a:lnTo>
                      <a:lnTo>
                        <a:pt x="113" y="66"/>
                      </a:lnTo>
                      <a:lnTo>
                        <a:pt x="116" y="59"/>
                      </a:lnTo>
                      <a:lnTo>
                        <a:pt x="121" y="56"/>
                      </a:lnTo>
                      <a:lnTo>
                        <a:pt x="128" y="59"/>
                      </a:lnTo>
                      <a:lnTo>
                        <a:pt x="135" y="65"/>
                      </a:lnTo>
                      <a:lnTo>
                        <a:pt x="139" y="70"/>
                      </a:lnTo>
                      <a:lnTo>
                        <a:pt x="142" y="80"/>
                      </a:lnTo>
                      <a:lnTo>
                        <a:pt x="144" y="70"/>
                      </a:lnTo>
                      <a:lnTo>
                        <a:pt x="145" y="59"/>
                      </a:lnTo>
                      <a:lnTo>
                        <a:pt x="150" y="54"/>
                      </a:lnTo>
                      <a:lnTo>
                        <a:pt x="156" y="56"/>
                      </a:lnTo>
                      <a:lnTo>
                        <a:pt x="158" y="54"/>
                      </a:lnTo>
                      <a:lnTo>
                        <a:pt x="163" y="53"/>
                      </a:lnTo>
                      <a:lnTo>
                        <a:pt x="169" y="58"/>
                      </a:lnTo>
                      <a:lnTo>
                        <a:pt x="173" y="67"/>
                      </a:lnTo>
                      <a:lnTo>
                        <a:pt x="179" y="74"/>
                      </a:lnTo>
                      <a:lnTo>
                        <a:pt x="183" y="86"/>
                      </a:lnTo>
                      <a:lnTo>
                        <a:pt x="193" y="101"/>
                      </a:lnTo>
                      <a:lnTo>
                        <a:pt x="199" y="120"/>
                      </a:lnTo>
                      <a:lnTo>
                        <a:pt x="200" y="137"/>
                      </a:lnTo>
                      <a:lnTo>
                        <a:pt x="200" y="149"/>
                      </a:lnTo>
                      <a:lnTo>
                        <a:pt x="199" y="162"/>
                      </a:lnTo>
                      <a:lnTo>
                        <a:pt x="190" y="171"/>
                      </a:lnTo>
                      <a:lnTo>
                        <a:pt x="177" y="169"/>
                      </a:lnTo>
                      <a:lnTo>
                        <a:pt x="162" y="164"/>
                      </a:lnTo>
                      <a:lnTo>
                        <a:pt x="146" y="166"/>
                      </a:lnTo>
                      <a:lnTo>
                        <a:pt x="127" y="169"/>
                      </a:lnTo>
                      <a:lnTo>
                        <a:pt x="108" y="166"/>
                      </a:lnTo>
                      <a:lnTo>
                        <a:pt x="88" y="162"/>
                      </a:lnTo>
                      <a:lnTo>
                        <a:pt x="74" y="160"/>
                      </a:lnTo>
                      <a:lnTo>
                        <a:pt x="55" y="162"/>
                      </a:lnTo>
                      <a:lnTo>
                        <a:pt x="42" y="164"/>
                      </a:lnTo>
                      <a:lnTo>
                        <a:pt x="24" y="165"/>
                      </a:lnTo>
                      <a:lnTo>
                        <a:pt x="14" y="164"/>
                      </a:lnTo>
                      <a:lnTo>
                        <a:pt x="8" y="159"/>
                      </a:lnTo>
                      <a:lnTo>
                        <a:pt x="2" y="152"/>
                      </a:lnTo>
                      <a:lnTo>
                        <a:pt x="5" y="135"/>
                      </a:lnTo>
                      <a:lnTo>
                        <a:pt x="9" y="120"/>
                      </a:lnTo>
                      <a:lnTo>
                        <a:pt x="8" y="102"/>
                      </a:lnTo>
                      <a:lnTo>
                        <a:pt x="6" y="92"/>
                      </a:lnTo>
                      <a:lnTo>
                        <a:pt x="2" y="74"/>
                      </a:lnTo>
                      <a:lnTo>
                        <a:pt x="0" y="54"/>
                      </a:lnTo>
                      <a:lnTo>
                        <a:pt x="0" y="34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9" name=""/>
            <p:cNvSpPr/>
            <p:nvPr/>
          </p:nvSpPr>
          <p:spPr>
            <a:xfrm>
              <a:off x="3471120" y="1722600"/>
              <a:ext cx="1888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4ffb"/>
                  </a:solidFill>
                  <a:latin typeface="Times New Roman"/>
                </a:rPr>
                <a:t>On-Line Acc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60" name=""/>
            <p:cNvGraphicFramePr/>
            <p:nvPr/>
          </p:nvGraphicFramePr>
          <p:xfrm>
            <a:off x="2692440" y="2967120"/>
            <a:ext cx="1160280" cy="11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92440" y="2967120"/>
                      <a:ext cx="1160280" cy="11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62" name="" descr=""/>
            <p:cNvPicPr/>
            <p:nvPr/>
          </p:nvPicPr>
          <p:blipFill>
            <a:blip r:embed="rId7"/>
            <a:stretch/>
          </p:blipFill>
          <p:spPr>
            <a:xfrm>
              <a:off x="3733920" y="3111480"/>
              <a:ext cx="1488960" cy="546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3" name=""/>
            <p:cNvGraphicFramePr/>
            <p:nvPr/>
          </p:nvGraphicFramePr>
          <p:xfrm>
            <a:off x="5207040" y="2890800"/>
            <a:ext cx="1160280" cy="1170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07040" y="2890800"/>
                      <a:ext cx="1160280" cy="11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CD7-47EC-4214-A0EE-31BD6D9F67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56Kbps Mode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me features but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quire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Digit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ines at POP (more lat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incompatible “standard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2 (US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56Flex (Rockwell,Lucent,oth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w limited to 52Kb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DB7-B5F4-4057-AF69-5C41BF332E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ellular Mode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l (modem carrier) gets interrupted as cells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NP 10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 interruption tolerant protoc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be on modems at both end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.34bis modem will work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(sort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t higher “carrier loss detect” S register o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both si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97C-4AB3-4A5B-ABFB-923FE3F7F0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at can ya expect?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performance for API, data only ap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e transf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TP, POP, or API E-m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249-B74E-40DB-913B-D737BB48B4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at d’ya expect?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usy perfomance for DOS file access intensive ap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ning apps from file ser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S Database ap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crosoft Mail 3.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Dis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cessing of Novell server logon scri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8A8-5502-4FB3-AB58-FBFA63254E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Use remote control for thos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ote Control Products that use TCP/IP or IPX network transport will work 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ymantec PC Anywhere 3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bon Cop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c Reachout Remo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7DC-2BF8-4593-AD3C-94D1507030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641400" y="1546200"/>
            <a:ext cx="1823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30640" y="3230640"/>
            <a:ext cx="7067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114ffb"/>
                </a:solidFill>
                <a:latin typeface="Times New Roman"/>
              </a:rPr>
              <a:t>It Still Does Nothing*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DD5-6CF2-4E0E-B4A1-C98D67D00DA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641400" y="1546200"/>
            <a:ext cx="1823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30640" y="3230640"/>
            <a:ext cx="706752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114ffb"/>
                </a:solidFill>
                <a:latin typeface="Times New Roman"/>
              </a:rPr>
              <a:t>It Still Does Nothing*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*if you don’t try i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1C4-748F-48F7-ABA9-B78B4F574E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059920" y="228600"/>
            <a:ext cx="535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Does ISDN Wor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295280"/>
            <a:ext cx="7954920" cy="44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SDN provides a standard “pipe” called 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Basic Rate Interfac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 is transmitted over the normal 2-wire copper cable facilities which are familiar to telephone transmission all over the world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like ordinary analog transmission which restricts this pipe to one conversation at a time, BRI combines, or multiplexes, three communications channels into that one pipe - all of which can be used simultaneousl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92F-EF34-41A1-BEB5-375A39115A1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1182960" y="1150200"/>
            <a:ext cx="5144040" cy="1783440"/>
            <a:chOff x="1182960" y="1150200"/>
            <a:chExt cx="5144040" cy="1783440"/>
          </a:xfrm>
        </p:grpSpPr>
        <p:grpSp>
          <p:nvGrpSpPr>
            <p:cNvPr id="522" name=""/>
            <p:cNvGrpSpPr/>
            <p:nvPr/>
          </p:nvGrpSpPr>
          <p:grpSpPr>
            <a:xfrm>
              <a:off x="1182960" y="1150200"/>
              <a:ext cx="5022000" cy="1783440"/>
              <a:chOff x="1182960" y="1150200"/>
              <a:chExt cx="5022000" cy="1783440"/>
            </a:xfrm>
          </p:grpSpPr>
          <p:sp>
            <p:nvSpPr>
              <p:cNvPr id="523" name=""/>
              <p:cNvSpPr/>
              <p:nvPr/>
            </p:nvSpPr>
            <p:spPr>
              <a:xfrm rot="20760000">
                <a:off x="1150560" y="1777680"/>
                <a:ext cx="4959360" cy="34272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760000">
                <a:off x="5986080" y="1166400"/>
                <a:ext cx="176400" cy="3430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0760000">
                <a:off x="1276200" y="1996560"/>
                <a:ext cx="4961160" cy="3416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20760000">
              <a:off x="6111360" y="1383840"/>
              <a:ext cx="176400" cy="3430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754640" y="228600"/>
            <a:ext cx="5953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34db"/>
                </a:solidFill>
                <a:latin typeface="Times New Roman"/>
              </a:rPr>
              <a:t>Basic Rate Interface (BRI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20760000">
            <a:off x="1160640" y="2371320"/>
            <a:ext cx="176040" cy="3430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20760000">
            <a:off x="1362240" y="2588760"/>
            <a:ext cx="176040" cy="3430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6960" y="144792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B Cha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13920" y="5029200"/>
            <a:ext cx="691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67900"/>
                </a:solidFill>
                <a:latin typeface="Times New Roman"/>
              </a:rPr>
              <a:t>B Channel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User, Voice, Data, Image,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3192"/>
                </a:solidFill>
                <a:latin typeface="Times New Roman"/>
              </a:rPr>
              <a:t>D Channel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all Signaling, Set-up, User Packe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07360" y="1523880"/>
            <a:ext cx="249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BRI = 2B +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29800" y="4114800"/>
            <a:ext cx="273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Times New Roman"/>
              </a:rPr>
              <a:t>16 Kbps D 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65920" y="2341440"/>
            <a:ext cx="6896520" cy="1811520"/>
            <a:chOff x="565920" y="2341440"/>
            <a:chExt cx="6896520" cy="1811520"/>
          </a:xfrm>
        </p:grpSpPr>
        <p:sp>
          <p:nvSpPr>
            <p:cNvPr id="535" name=""/>
            <p:cNvSpPr/>
            <p:nvPr/>
          </p:nvSpPr>
          <p:spPr>
            <a:xfrm rot="20880000">
              <a:off x="695160" y="3055680"/>
              <a:ext cx="6708960" cy="40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880000">
              <a:off x="604800" y="3730320"/>
              <a:ext cx="243000" cy="4014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880000">
              <a:off x="7180200" y="2361960"/>
              <a:ext cx="243000" cy="4014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4EA-7AB4-4CA0-8724-3DC6859DF498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 64Kbps “line”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called “DS0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ndard digital US phone call un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s one Voice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 bits sampled @ 8,000 times/seco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64,000 bits per seco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64Kbp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ster lines are time-div-multiplexed groups of DS0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04A-B901-4BCD-A553-7CDE65BE20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ntroduction 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ed to provide services on the Corporate LAN and/or Intranet to remote use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/T support staf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oad Warrior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 staff working from h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actors and vendor support staf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9D9-3E15-465D-82E5-EA7DB8F502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SDN BRI feature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 Digital Line delivered on a single pa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I - Two 64Kbps B Channe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l sets u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 secon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spare B f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alog Modem (some have built-i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bine B’s for 128Kbps wi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NDING (no “demand” to it!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PPP (Multilink PPP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887-3A91-4B1C-9CBF-9BCD46CD07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SDN “Modem”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really a “Modem” - ISDN 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al / External / PC c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rnal has serial port connection to P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ial bottleneck causes less than optimum performance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(more la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have Parallel 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4X better throughput (200-300Kb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635-316C-4B0D-8967-C764EC033E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SDN Rout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rnal with 10Mbps Ethernet (10BaseT) 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C requires LAN c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with BOOTP/DHCP to dynamically assign IP addres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4X better throughput (200-300Kb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51B-2E64-4609-8DFF-F4EF563BDA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at does ISDN cost?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ential BR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all ~$1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thly ~$34.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B usage charge same as POTS phone 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Band” (8 miles) “Nickel zone” call .05  unti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 Band,” “C Band” calls ti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739-CF97-4D71-B9A5-CD5FAB9035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How to order ISD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l 1-800-TEAM-DATA (Business orders from CBS, EBS, or SBS. See phone bil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der National ISDN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itched Voice/Data on BOTH B chann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one numbers on BOTH B chann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icate equipment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DN Provisioning center will FAX order confirmation with SPI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21A-5900-44C1-AFDC-85DB2B13FE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hoosing ISDN equipmen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oose built-in NT (Network Terminato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for unit with one or two POTS jacks for analog phone and FA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for EZ set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C40-95A4-4DA4-9DC8-B4B1398D0F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onfiguring ISDN devic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witch type: National ISDN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SPIDs, LDN (phone numbe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DN1: 84793612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ID1: 847936121201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DN2: 847936121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ID2: 847936121301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CC2-0BF5-4AEB-9124-4BC8854D3D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erial is a Kill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YNCH port ships 10 bits for 8-bit byte of data, a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20% overhea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38,400bps, 57,600bps, 115,200bps (not as fast as raw 128Kbps 2B ISDN!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quires 16550 or 16650 UART with FIFO buff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C / Windows cannot service serial port interrupts fast enough, losing dat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Lowering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the port speed ma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improve throughput performanc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! (check PPP stat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505-9CE1-4F0B-AC6E-0F652B7803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Network Protoco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755640" y="3467160"/>
          <a:ext cx="793116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467160"/>
                    <a:ext cx="79311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7B59-9F81-41E3-821F-DF112D79AF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Network Protoco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X/SP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BEUI (NetBIO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50720" y="3619440"/>
          <a:ext cx="793116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3619440"/>
                    <a:ext cx="79311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3DA-3CF7-4E89-BA4D-73408D7150B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ntroduction 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day’s Applications require live, “real time” acces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652-F5AA-4459-BC65-4E7DF01E46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TCP/IP 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versal DOD protocol of the Int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quires unique network address (or NA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outable - choice of routing protocols, typically R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alable packet si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only used to carry (tunnel) other protocols like IPX, NetBEUI, S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617-8950-4747-A50B-D9396164D2F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TCP/IP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i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rd code Client IP add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node identification, DNS rev, 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ign IP addresses during PPP negot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ver has IP address po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C79-BAFA-4A79-B2B5-A7A7F1F22B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TCP/IP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Eit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 remote nodes as separate advertised  sub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existing subnet with proxy ARP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me DNS, WWW, Email, etc. server addre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6B8-B981-4417-8326-7FE0B91D42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TCP/IP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me DNS, WWW, Email, etc. server IP addre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ECB-8971-4EC7-8A65-7AAF83FDA18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VPN - Secure TCP/I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twork Lay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(Applic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(Presentation/Sess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 (Transpo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 (Networ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33"/>
                </a:solidFill>
                <a:latin typeface="Arial"/>
              </a:rPr>
              <a:t>ENCRYP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PP (Data Lin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ial Modem (Physica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070-4403-426D-A357-C120D8D9385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VPN - Secure TCP/I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ure link from node to firewall, even across unsecure networks, i.e.. the Int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t of IETF IPv6 (but v6 not require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ple DES encryp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n IP address encryp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EF9-3702-497C-B129-1DB076CE291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PX / SPX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vell Netware / IntraNe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ypical 128Kbyte (small) packet si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ily File or Print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oadcast to locate serv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P service broadca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P routing upd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147-4572-4686-A3C2-68E30B96899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IPX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w arbitrary IPX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X network-node address during PPP negot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ver has IPX network address for remote n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ote client generates node add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outbound SAP filters (unless server is remot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C7E-1E14-4231-8C2B-5587BF950D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NetBEUI</a:t>
            </a:r>
            <a:br>
              <a:rPr sz="4200"/>
            </a:b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Net BOO! Hiss!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nsion of NetBIO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ed by IBM as basic LAN protoc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ulates BIOS file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r by Microsoft LAN Mana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s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broadca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ot rout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d by WFW, Win95, NT Network choos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C3E-D911-49B2-AD30-913AAA0A65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NetBEUI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ed it to make access friend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st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BEUI&lt;---&gt;WINS &lt;---&gt; TCP/IP &lt;---&gt; WINS &lt;---&gt;NetBEU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BEUI &lt;---&gt; IPX &lt;---&gt; NetBEU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 use NBCP in PPP link (like RAS serv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… use local LMHOSTS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1BB-34F9-4EDA-A6B7-77C5FC3550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to provid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ransparen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remote access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ll servi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 multiprotocol LAN serv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to maximize perform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to maintain secu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figure Windows 95 / NT 4.0 cl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figure Access Server / Rou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754-854C-44B7-8D04-4BFB9C51F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00"/>
                </a:solidFill>
                <a:latin typeface="Times New Roman"/>
              </a:rPr>
              <a:t>On the client side</a:t>
            </a:r>
            <a:endParaRPr b="0" lang="en-US" sz="6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B55F-F4E5-4672-BE07-DAD57D9D08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indows 3.1, 3.11</a:t>
            </a:r>
            <a:br>
              <a:rPr sz="4200"/>
            </a:b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(Windows for Workgroups)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ommend Stampede Remote Office G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stampede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C04-F121-412C-969E-DA3BD091189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indows 95/N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al-up” networ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Control Panel or Accesso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all from CD as “Communicatio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y logon --&gt; Windows log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node “username”, password. Click on “Save password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8E6-DBEE-461C-ACEB-754AC3B7471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Resist the urge to tinker!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crosoft talks funny.  Some options have strange behavior. 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he defaults are usually correc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399D-7771-44A9-8137-D9CB5CB140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00"/>
                </a:solidFill>
                <a:latin typeface="Times New Roman"/>
              </a:rPr>
              <a:t>On the server side</a:t>
            </a:r>
            <a:endParaRPr b="0" lang="en-US" sz="6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1AC4-DD97-4409-BE9C-43573FF24BE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603080" y="228600"/>
            <a:ext cx="659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34db"/>
                </a:solidFill>
                <a:latin typeface="Times New Roman"/>
              </a:rPr>
              <a:t>Primary Rate Interface (PRI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8960" y="1279440"/>
            <a:ext cx="3237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PRI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ed States: 23 B+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ope/Asia: 30/31 B+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0040" y="2743200"/>
            <a:ext cx="229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67900"/>
                </a:solidFill>
                <a:latin typeface="Arial"/>
              </a:rPr>
              <a:t>B Channel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Voice,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,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59160" y="5029200"/>
            <a:ext cx="5168880" cy="368280"/>
            <a:chOff x="3359160" y="5029200"/>
            <a:chExt cx="5168880" cy="368280"/>
          </a:xfrm>
        </p:grpSpPr>
        <p:sp>
          <p:nvSpPr>
            <p:cNvPr id="598" name=""/>
            <p:cNvSpPr/>
            <p:nvPr/>
          </p:nvSpPr>
          <p:spPr>
            <a:xfrm>
              <a:off x="3452760" y="5029200"/>
              <a:ext cx="4921200" cy="368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59160" y="5029200"/>
              <a:ext cx="139680" cy="368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53440" y="5029200"/>
              <a:ext cx="174600" cy="368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59360" y="4282920"/>
            <a:ext cx="21326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3192"/>
                </a:solidFill>
                <a:latin typeface="Arial"/>
              </a:rPr>
              <a:t>D Channel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Signaling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-up, U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ke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83680" y="3809880"/>
            <a:ext cx="198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23 B Cha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61080" y="5692680"/>
            <a:ext cx="259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64 Kbps D 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790800" y="1676520"/>
            <a:ext cx="4973760" cy="1946160"/>
            <a:chOff x="3790800" y="1676520"/>
            <a:chExt cx="4973760" cy="1946160"/>
          </a:xfrm>
        </p:grpSpPr>
        <p:grpSp>
          <p:nvGrpSpPr>
            <p:cNvPr id="605" name=""/>
            <p:cNvGrpSpPr/>
            <p:nvPr/>
          </p:nvGrpSpPr>
          <p:grpSpPr>
            <a:xfrm>
              <a:off x="3790800" y="2521080"/>
              <a:ext cx="4127760" cy="901440"/>
              <a:chOff x="3790800" y="2521080"/>
              <a:chExt cx="4127760" cy="90144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3790800" y="2521080"/>
                <a:ext cx="3670560" cy="444240"/>
                <a:chOff x="3790800" y="2521080"/>
                <a:chExt cx="3670560" cy="44424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857760" y="2521080"/>
                  <a:ext cx="3493800" cy="4442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790800" y="2521080"/>
                  <a:ext cx="96840" cy="444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340760" y="2521080"/>
                  <a:ext cx="120600" cy="444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3943440" y="2673360"/>
                <a:ext cx="3670200" cy="444600"/>
                <a:chOff x="3943440" y="2673360"/>
                <a:chExt cx="3670200" cy="4446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010040" y="2673360"/>
                  <a:ext cx="3494160" cy="4446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943440" y="2673360"/>
                  <a:ext cx="96840" cy="4446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493040" y="2673360"/>
                  <a:ext cx="120600" cy="4446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095720" y="2825640"/>
                <a:ext cx="3670200" cy="444600"/>
                <a:chOff x="4095720" y="2825640"/>
                <a:chExt cx="3670200" cy="4446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162320" y="2825640"/>
                  <a:ext cx="3494160" cy="4446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095720" y="2825640"/>
                  <a:ext cx="96840" cy="4446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645320" y="2825640"/>
                  <a:ext cx="120600" cy="4446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4248000" y="2978280"/>
                <a:ext cx="3670560" cy="444240"/>
                <a:chOff x="4248000" y="2978280"/>
                <a:chExt cx="3670560" cy="4442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4314960" y="2978280"/>
                  <a:ext cx="3493800" cy="4442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248000" y="2978280"/>
                  <a:ext cx="96840" cy="444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797960" y="2978280"/>
                  <a:ext cx="120600" cy="444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2" name=""/>
            <p:cNvSpPr/>
            <p:nvPr/>
          </p:nvSpPr>
          <p:spPr>
            <a:xfrm rot="16080000">
              <a:off x="5591160" y="2368800"/>
              <a:ext cx="1844640" cy="6220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4425840" y="2368440"/>
              <a:ext cx="4025880" cy="444600"/>
              <a:chOff x="4425840" y="2368440"/>
              <a:chExt cx="4025880" cy="444600"/>
            </a:xfrm>
          </p:grpSpPr>
          <p:sp>
            <p:nvSpPr>
              <p:cNvPr id="624" name=""/>
              <p:cNvSpPr/>
              <p:nvPr/>
            </p:nvSpPr>
            <p:spPr>
              <a:xfrm>
                <a:off x="4498920" y="2368440"/>
                <a:ext cx="383220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425840" y="2368440"/>
                <a:ext cx="10656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18520" y="2368440"/>
                <a:ext cx="1332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273560" y="2216160"/>
              <a:ext cx="4025880" cy="444600"/>
              <a:chOff x="4273560" y="2216160"/>
              <a:chExt cx="4025880" cy="444600"/>
            </a:xfrm>
          </p:grpSpPr>
          <p:sp>
            <p:nvSpPr>
              <p:cNvPr id="628" name=""/>
              <p:cNvSpPr/>
              <p:nvPr/>
            </p:nvSpPr>
            <p:spPr>
              <a:xfrm>
                <a:off x="4346640" y="2216160"/>
                <a:ext cx="383220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73560" y="2216160"/>
                <a:ext cx="1062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166240" y="2216160"/>
                <a:ext cx="1332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427640" y="2521080"/>
              <a:ext cx="3490920" cy="444240"/>
              <a:chOff x="4427640" y="2521080"/>
              <a:chExt cx="3490920" cy="444240"/>
            </a:xfrm>
          </p:grpSpPr>
          <p:sp>
            <p:nvSpPr>
              <p:cNvPr id="632" name=""/>
              <p:cNvSpPr/>
              <p:nvPr/>
            </p:nvSpPr>
            <p:spPr>
              <a:xfrm>
                <a:off x="4491000" y="2521080"/>
                <a:ext cx="332424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427640" y="2521080"/>
                <a:ext cx="9036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805880" y="2521080"/>
                <a:ext cx="11268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579920" y="2673360"/>
              <a:ext cx="3490920" cy="444600"/>
              <a:chOff x="4579920" y="2673360"/>
              <a:chExt cx="3490920" cy="444600"/>
            </a:xfrm>
          </p:grpSpPr>
          <p:sp>
            <p:nvSpPr>
              <p:cNvPr id="636" name=""/>
              <p:cNvSpPr/>
              <p:nvPr/>
            </p:nvSpPr>
            <p:spPr>
              <a:xfrm>
                <a:off x="4643280" y="2673360"/>
                <a:ext cx="332424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579920" y="2673360"/>
                <a:ext cx="9036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958160" y="2673360"/>
                <a:ext cx="11268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4781520" y="2825640"/>
              <a:ext cx="3670200" cy="444600"/>
              <a:chOff x="4781520" y="2825640"/>
              <a:chExt cx="3670200" cy="444600"/>
            </a:xfrm>
          </p:grpSpPr>
          <p:sp>
            <p:nvSpPr>
              <p:cNvPr id="640" name=""/>
              <p:cNvSpPr/>
              <p:nvPr/>
            </p:nvSpPr>
            <p:spPr>
              <a:xfrm>
                <a:off x="4848120" y="2825640"/>
                <a:ext cx="349416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781520" y="2825640"/>
                <a:ext cx="9684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331120" y="2825640"/>
                <a:ext cx="1206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605480" y="1835280"/>
              <a:ext cx="3313080" cy="444240"/>
              <a:chOff x="4605480" y="1835280"/>
              <a:chExt cx="3313080" cy="444240"/>
            </a:xfrm>
          </p:grpSpPr>
          <p:sp>
            <p:nvSpPr>
              <p:cNvPr id="644" name=""/>
              <p:cNvSpPr/>
              <p:nvPr/>
            </p:nvSpPr>
            <p:spPr>
              <a:xfrm>
                <a:off x="4665600" y="1835280"/>
                <a:ext cx="315432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5480" y="1835280"/>
                <a:ext cx="8568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810560" y="1835280"/>
                <a:ext cx="10800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121280" y="2063880"/>
              <a:ext cx="4025880" cy="444240"/>
              <a:chOff x="4121280" y="2063880"/>
              <a:chExt cx="4025880" cy="444240"/>
            </a:xfrm>
          </p:grpSpPr>
          <p:sp>
            <p:nvSpPr>
              <p:cNvPr id="648" name=""/>
              <p:cNvSpPr/>
              <p:nvPr/>
            </p:nvSpPr>
            <p:spPr>
              <a:xfrm>
                <a:off x="4194000" y="2063880"/>
                <a:ext cx="383256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121280" y="2063880"/>
                <a:ext cx="10620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013600" y="2063880"/>
                <a:ext cx="13356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4757760" y="1987560"/>
              <a:ext cx="3313080" cy="444600"/>
              <a:chOff x="4757760" y="1987560"/>
              <a:chExt cx="3313080" cy="444600"/>
            </a:xfrm>
          </p:grpSpPr>
          <p:sp>
            <p:nvSpPr>
              <p:cNvPr id="652" name=""/>
              <p:cNvSpPr/>
              <p:nvPr/>
            </p:nvSpPr>
            <p:spPr>
              <a:xfrm>
                <a:off x="4818240" y="1987560"/>
                <a:ext cx="315432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57760" y="1987560"/>
                <a:ext cx="8568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962840" y="1987560"/>
                <a:ext cx="1080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4910040" y="2139840"/>
              <a:ext cx="3313080" cy="444600"/>
              <a:chOff x="4910040" y="2139840"/>
              <a:chExt cx="3313080" cy="444600"/>
            </a:xfrm>
          </p:grpSpPr>
          <p:sp>
            <p:nvSpPr>
              <p:cNvPr id="656" name=""/>
              <p:cNvSpPr/>
              <p:nvPr/>
            </p:nvSpPr>
            <p:spPr>
              <a:xfrm>
                <a:off x="4970520" y="2139840"/>
                <a:ext cx="315432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910040" y="2139840"/>
                <a:ext cx="8568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115480" y="2139840"/>
                <a:ext cx="10764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062680" y="2292480"/>
              <a:ext cx="3313080" cy="444240"/>
              <a:chOff x="5062680" y="2292480"/>
              <a:chExt cx="3313080" cy="444240"/>
            </a:xfrm>
          </p:grpSpPr>
          <p:sp>
            <p:nvSpPr>
              <p:cNvPr id="660" name=""/>
              <p:cNvSpPr/>
              <p:nvPr/>
            </p:nvSpPr>
            <p:spPr>
              <a:xfrm>
                <a:off x="5122800" y="2292480"/>
                <a:ext cx="315432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62680" y="2292480"/>
                <a:ext cx="8568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267760" y="2292480"/>
                <a:ext cx="10800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097600" y="2521080"/>
              <a:ext cx="2896920" cy="352440"/>
              <a:chOff x="5097600" y="2521080"/>
              <a:chExt cx="2896920" cy="352440"/>
            </a:xfrm>
          </p:grpSpPr>
          <p:sp>
            <p:nvSpPr>
              <p:cNvPr id="664" name=""/>
              <p:cNvSpPr/>
              <p:nvPr/>
            </p:nvSpPr>
            <p:spPr>
              <a:xfrm>
                <a:off x="5151600" y="2521080"/>
                <a:ext cx="2755800" cy="3524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097600" y="2521080"/>
                <a:ext cx="72720" cy="3524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902720" y="2521080"/>
                <a:ext cx="91800" cy="3524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216400" y="2673360"/>
              <a:ext cx="2778120" cy="352440"/>
              <a:chOff x="5216400" y="2673360"/>
              <a:chExt cx="2778120" cy="352440"/>
            </a:xfrm>
          </p:grpSpPr>
          <p:sp>
            <p:nvSpPr>
              <p:cNvPr id="668" name=""/>
              <p:cNvSpPr/>
              <p:nvPr/>
            </p:nvSpPr>
            <p:spPr>
              <a:xfrm>
                <a:off x="5267160" y="2673360"/>
                <a:ext cx="2644920" cy="3524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216400" y="2673360"/>
                <a:ext cx="68400" cy="3524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07400" y="2673360"/>
                <a:ext cx="87120" cy="3524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4933800" y="2978280"/>
              <a:ext cx="3670560" cy="444240"/>
              <a:chOff x="4933800" y="2978280"/>
              <a:chExt cx="3670560" cy="444240"/>
            </a:xfrm>
          </p:grpSpPr>
          <p:sp>
            <p:nvSpPr>
              <p:cNvPr id="672" name=""/>
              <p:cNvSpPr/>
              <p:nvPr/>
            </p:nvSpPr>
            <p:spPr>
              <a:xfrm>
                <a:off x="5000760" y="2978280"/>
                <a:ext cx="349380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33800" y="2978280"/>
                <a:ext cx="9684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483760" y="2978280"/>
                <a:ext cx="12060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6396120" y="1676520"/>
              <a:ext cx="2368440" cy="1946160"/>
            </a:xfrm>
            <a:custGeom>
              <a:avLst/>
              <a:gdLst/>
              <a:ahLst/>
              <a:rect l="l" t="t" r="r" b="b"/>
              <a:pathLst>
                <a:path w="1492" h="1226">
                  <a:moveTo>
                    <a:pt x="38" y="1225"/>
                  </a:moveTo>
                  <a:lnTo>
                    <a:pt x="1341" y="1177"/>
                  </a:lnTo>
                  <a:lnTo>
                    <a:pt x="1361" y="1167"/>
                  </a:lnTo>
                  <a:lnTo>
                    <a:pt x="1379" y="1152"/>
                  </a:lnTo>
                  <a:lnTo>
                    <a:pt x="1398" y="1134"/>
                  </a:lnTo>
                  <a:lnTo>
                    <a:pt x="1415" y="1109"/>
                  </a:lnTo>
                  <a:lnTo>
                    <a:pt x="1439" y="1070"/>
                  </a:lnTo>
                  <a:lnTo>
                    <a:pt x="1455" y="1019"/>
                  </a:lnTo>
                  <a:lnTo>
                    <a:pt x="1467" y="961"/>
                  </a:lnTo>
                  <a:lnTo>
                    <a:pt x="1479" y="886"/>
                  </a:lnTo>
                  <a:lnTo>
                    <a:pt x="1488" y="809"/>
                  </a:lnTo>
                  <a:lnTo>
                    <a:pt x="1491" y="734"/>
                  </a:lnTo>
                  <a:lnTo>
                    <a:pt x="1490" y="651"/>
                  </a:lnTo>
                  <a:lnTo>
                    <a:pt x="1488" y="585"/>
                  </a:lnTo>
                  <a:lnTo>
                    <a:pt x="1483" y="484"/>
                  </a:lnTo>
                  <a:lnTo>
                    <a:pt x="1478" y="412"/>
                  </a:lnTo>
                  <a:lnTo>
                    <a:pt x="1468" y="348"/>
                  </a:lnTo>
                  <a:lnTo>
                    <a:pt x="1461" y="292"/>
                  </a:lnTo>
                  <a:lnTo>
                    <a:pt x="1444" y="221"/>
                  </a:lnTo>
                  <a:lnTo>
                    <a:pt x="1423" y="158"/>
                  </a:lnTo>
                  <a:lnTo>
                    <a:pt x="1405" y="105"/>
                  </a:lnTo>
                  <a:lnTo>
                    <a:pt x="1381" y="59"/>
                  </a:lnTo>
                  <a:lnTo>
                    <a:pt x="1358" y="36"/>
                  </a:lnTo>
                  <a:lnTo>
                    <a:pt x="1339" y="14"/>
                  </a:lnTo>
                  <a:lnTo>
                    <a:pt x="1320" y="4"/>
                  </a:lnTo>
                  <a:lnTo>
                    <a:pt x="1301" y="0"/>
                  </a:lnTo>
                  <a:lnTo>
                    <a:pt x="0" y="48"/>
                  </a:lnTo>
                  <a:lnTo>
                    <a:pt x="34" y="62"/>
                  </a:lnTo>
                  <a:lnTo>
                    <a:pt x="66" y="88"/>
                  </a:lnTo>
                  <a:lnTo>
                    <a:pt x="83" y="109"/>
                  </a:lnTo>
                  <a:lnTo>
                    <a:pt x="106" y="153"/>
                  </a:lnTo>
                  <a:lnTo>
                    <a:pt x="125" y="211"/>
                  </a:lnTo>
                  <a:lnTo>
                    <a:pt x="141" y="264"/>
                  </a:lnTo>
                  <a:lnTo>
                    <a:pt x="155" y="329"/>
                  </a:lnTo>
                  <a:lnTo>
                    <a:pt x="165" y="392"/>
                  </a:lnTo>
                  <a:lnTo>
                    <a:pt x="174" y="454"/>
                  </a:lnTo>
                  <a:lnTo>
                    <a:pt x="180" y="517"/>
                  </a:lnTo>
                  <a:lnTo>
                    <a:pt x="193" y="602"/>
                  </a:lnTo>
                  <a:lnTo>
                    <a:pt x="195" y="686"/>
                  </a:lnTo>
                  <a:lnTo>
                    <a:pt x="189" y="786"/>
                  </a:lnTo>
                  <a:lnTo>
                    <a:pt x="180" y="885"/>
                  </a:lnTo>
                  <a:lnTo>
                    <a:pt x="171" y="954"/>
                  </a:lnTo>
                  <a:lnTo>
                    <a:pt x="161" y="1020"/>
                  </a:lnTo>
                  <a:lnTo>
                    <a:pt x="145" y="1086"/>
                  </a:lnTo>
                  <a:lnTo>
                    <a:pt x="125" y="1137"/>
                  </a:lnTo>
                  <a:lnTo>
                    <a:pt x="111" y="1163"/>
                  </a:lnTo>
                  <a:lnTo>
                    <a:pt x="91" y="1189"/>
                  </a:lnTo>
                  <a:lnTo>
                    <a:pt x="69" y="1205"/>
                  </a:lnTo>
                  <a:lnTo>
                    <a:pt x="38" y="122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7AE-B52B-481C-885D-935329EF6F42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PRI, the </a:t>
            </a: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Hot Setu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3 channels (lines) serv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alog modem and digital ISDN us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“further in” gives clearer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 channel indicates voice call ---&gt; software modem “emulator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 channel indicates digital call ---&gt; digital “all the w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5EB-BD06-406E-868E-AFF42C7EBAE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PRI, the </a:t>
            </a: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Hot Setu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s “Caller ID” for logging, secu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3 lines on one port for high dens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 to 268 lines in one 19” rack device (Bay Networks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up used by large ISPs (i.e.. A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815-F726-4C66-95C8-EB4D0E4EC5D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Resist the urge to tinker!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he defaults are usually correc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184F-3369-4F27-9FDB-DDCCACCEF19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ere to get more in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 Kegel’s ISDN page - http://alumni.caltech.edu:80/~dank/isd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nd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ascend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adtra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baynetwork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cisc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shiva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076-BB11-4F5F-9252-A6CA03A673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ummary (cont.)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toc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/I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et / Intra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soft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vell NetWare / IntraNet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soft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BEUI (NETBIO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 for Workgroup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soft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0C5-D165-4904-8B68-2D9A31FF5D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User databas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be 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FTP, DNS ser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may be expo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thentication database ser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CACS, TACAS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isc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di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0F9-0C11-4100-9B86-1F707BD6708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ctivity logg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YSLO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NMP Tra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thentication database ser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CA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di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se logs with Perl to do reports, bil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E07-484E-4093-95C7-2488AD892F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ere to get more in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net Newsgroups                         (or… use http://www.dejanews.co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protocols.tcp-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protocols.p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dcom.isd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dcom.mod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dcom.serv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dcom.mod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360-C292-41D8-BEC6-4701D3E11E5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ere to get more in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etwork Computing Magazin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ttp://techweb.cmp.com/nc/do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ISDN Literacy Boo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Gerald L. Hopkins,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ddison-Wesley Pub. Co. ISBN#0201629798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BA4-E15D-447E-A485-49B63D972BC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at remote access are you  using now?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ypes of servers do you ha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you using or planning on using N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kind of remote user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easy for users to dial i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usable is the access speed?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kind of security is in plac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ken authent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4BC-1575-42B3-8FE9-97393303D3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 litt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heory on Communications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urity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work pla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ndows 95 configu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General) Access server configu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587-2FD9-4250-9143-71E5F1560F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Up and Down the stack 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twork Layer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(again???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tation/S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5403960" y="1746360"/>
          <a:ext cx="365112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3960" y="1746360"/>
                    <a:ext cx="365112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D96-E1CC-474E-B765-1F967AF2C0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Mike Andrews</dc:creator>
  <dc:description/>
  <dc:language>en-US</dc:language>
  <cp:lastModifiedBy>PSA</cp:lastModifiedBy>
  <dcterms:modified xsi:type="dcterms:W3CDTF">1998-08-27T01:23:12Z</dcterms:modified>
  <cp:revision>23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olltech.com</vt:lpwstr>
  </property>
  <property fmtid="{D5CDD505-2E9C-101B-9397-08002B2CF9AE}" pid="9" name="LinkColor">
    <vt:r8>16711782</vt:r8>
  </property>
  <property fmtid="{D5CDD505-2E9C-101B-9397-08002B2CF9AE}" pid="10" name="MailAddress">
    <vt:lpwstr>davidy@colltech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MP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